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4C5-0DB4-43D1-A1B8-09008C63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C7B-41CE-4822-8DF6-52E46516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9E9-BFF5-4B68-8230-E2CB96E9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3AE-CDFA-4C07-A6F9-BC21844D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FF17-AA77-4BB1-9B99-EA8C6102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51AD-0EBB-406E-93CB-9631582E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DB3A-D521-430E-97CA-D389167C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A404-9D6E-4FA2-A4D9-662EB7ED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3AC7-1D71-408A-8037-4BF4A686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5351-3E03-4558-9FB9-D3B696DA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2781-40A0-4987-BEAE-3DC552B5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55F-553C-444B-B3DB-9379AF0E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AC00-F3A6-4689-808A-0BC24CF0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B89B-36AF-4FB4-BA97-0E7EC24C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FC25-031E-40BA-9798-E0B8B92B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F695-BC82-44A5-A98B-6DD169A9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7BDD-3E30-46F1-905B-C250B8C1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FB9-67C9-4720-A5B2-B3F6D1DB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C54-14D0-4B1C-B254-6B5920B7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533-4C9A-416A-825F-C5002088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023-22F9-4369-A4A0-885A0117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415-3026-4B1F-B337-FCB54E6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D93-602D-4277-B710-16154E9B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368-6CCD-471C-8B6D-16D3A5B6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4A55-31BD-4D5A-A25F-A42C9EED56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B6F9-4AD9-4959-B960-4569C85B4B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692280"/>
            <a:ext cx="7239240" cy="14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vorba uživatelských tvarů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6920" y="2637000"/>
            <a:ext cx="770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vorba uživatelského tvaru vychází ze  standardních cyklů, které jsou součástí systému a zachovává i podobnou grafickou struktur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živatel požaduje vlastní, specielní cyklus, který se využije jen u jednoho konkrétního stroj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hradí komfortněji parametrický partprogram, kde by obsluha musela ručně editovala paramet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ápis do registrů v PLC.NS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827000"/>
            <a:ext cx="7993080" cy="28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WriteRegStr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KLM "Software\MEFI\WinCNC\Machine\UserInterface\Dialogs\UserMacro" "HtmlFile" "UserMacro.html"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WriteRegStr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KLM "Software\MEFI\WinCNC\Machine\UserInterface\Dialogs\UserMacro" "Library" "WinCNC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WriteRegStr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KLM "Software\MEFI\WinCNC\Machine\UserInterface\Dialogs\UserMacro" "SoftMenuFile"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WndMacroDialogMacro.SoftMenu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WriteRegStr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KLM "Software\MEFI\WinCNC\Machine\UserInterface\Dialogs\UserMacro" "Type"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MacroDialog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4941720"/>
            <a:ext cx="7885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Zápis musí být na jedné řád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vní řádek v registraci říká, že  Dialog se jmenuje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serMacro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 spouští html stránku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serMacro.html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Další řádky udávají o jakou se jedná knihovnu, že se jedná o softwarové tlačítko a o jaký typ dialogu se jed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Jak je to v registru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488360" cy="29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68360" y="5229360"/>
            <a:ext cx="820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rvní zápis odkazuje na HTML soubor UserMacro.html, který je umístěn ve složce CNC Machine Files\HTML. V příkazu se uvádí se pouze relativní cesta, vztahující se k adresáři HTML. Pokud chceme vytvořené html soubory a různé obrázky umístit do podadresáře v adresáři HTML, musíme tento podadresář vytvořit a nahrát do něj potřebné soubory (v PLC.NS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soub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1844640"/>
            <a:ext cx="7561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7733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ialog UserMacro je popsán HTML stránkou „UserMacro.html“. Zobrazí  dialog podle obrázku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933720"/>
            <a:ext cx="770400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ále je v HTML souboru odkaz, jaká HTML stránka se zobrazí, pokud se „dotkneme“ menu tlačítka Opracování obruč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href="OpracovaniObruce.htm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ento odkaz zobrazí  HTML stránku OpracovaniObruce.html, což je dialog pro zadání potřebných parametr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395928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684360" y="2708280"/>
            <a:ext cx="403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 HTML souboru je určeno, jaký obrázek se zobrazí jako velké „menu tlačítko“. V našem případě je to obrázek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„OpracovaniObruce.gif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a má velikost 160 x 120 pix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OpracovaniObruce.ht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48360" cy="454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OpracovaniObruce.ht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3137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&lt;BOD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PutHtmlFile="TRUE" NCPFile="Macro\Obruc1.ncp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CNCDirectory="DIR_USER SUBDIR_NCP" BlockText=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CALLMACRO(NoMacro_Obruc)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213000"/>
            <a:ext cx="777744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utHtmlFile="TRUE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TRUE znamená, že ve vytvořeném NCP souboru se jako komentář uvede, jaký html soubor tento NCP program vytváří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NCPFile="Macro\Obruc1.ncp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Zde je uveden název souboru, který se automaticky vytvoří po zadání parametrů uživatelského tvaru v Dialogu a potvrzení tlačítkem OK. V našem případě se vytvoří soubor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bruc1.ncp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a bude vytvořen v podadresáři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acro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 Adresář Macro je pak podadresářem adresáře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N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CNCDirectory="DIR_USER SUBDIR_NCP"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Zde je uvedeno, že výše zmíněný soubor Obruc1.ncp v adresáři Macro bude vytvořen v uživatelské části, t.j. v adreáři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CNC User Files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BlockText=" CALLMACRO(NoMacro_Obruc)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Tento  parametr udává rozvoj textu, který se uloží do výše zmíněného souboru Obruc1.nc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nerace programu obecně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313760" cy="28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InitText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am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Hodnota1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am2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Hodnota2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…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BlockText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nalText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 ENDPROGRAM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leEnd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581360"/>
            <a:ext cx="806436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našem rozvoji jsem nepoužili parametr InitText. Kdybychom ho použili, a napsali  např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nitText = "%10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ložilo by se do souboru Obruc1.ncp na začátek ještě %100. Podobně lze použít FinalText a FileEnd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generovaný progra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ELKA_L=1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ELKA_H=3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UMER_D=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TACKY=1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YCHLOST=1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"HtmlFile" "C:\CNC\MachineFiles\Html\OpracovaniObruce.htm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ALLMACRO(NoMacro_Obru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 ENDPRO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aplnění parametr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1628640"/>
            <a:ext cx="864252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&lt;DIV id="Param_R00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&lt;SPAN id="Param_R00_Lbl"  class="LabelMedium" &gt;L&lt;/SPA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&lt;INPUT id="Param_R00_Val" class="EditMedium"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orageName="DELKA_L" type="text" value="11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umberCheck="NumberType: Real;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860640"/>
            <a:ext cx="835200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id="Param_R00"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– identifikátor parametru, určuje umístění v okně, viz stejnojmenný identifikátor v části definice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YLE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id="Param_R00_Lbl"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určuje umístění názvu parametru, zde písmeno „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id="Param_R00_Val"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určuje umístění  okénka pro zadání hodno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určuje, kam se má zadaná hodnota uložit a pod jakým názv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určují předpis pro typ písma, barvu atd a jsou definované v souboru CSS styl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orageName=“Delka_L“.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Název parametru, který se „vytvoří“ v souboru Obruc1.ncp a kterému se přiřadí do hodnota, která se zadá do okénka. Dále je zde určeno, že se jedná o zadání reálného čísla (NumberCheck), zadávané údaje do okénka jsou typu text a prvotní hodnota, která se naplní je 11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krocyklu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313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 BEGIN(NoMacro_OBRUC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" Volba nástroje a otáče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00 M3 Tool(2,40) SpindleSpeed = Otacky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10 G00 G90 G23 Z20                  " Bezpečná výška v Z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20 Tool(2,42) EQDOFFS = 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AxGX = (PRUMER_D/2)-1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30 Z10                              " 10 mm před materiálem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40 G01 Feed = Rychlost "G95" G94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AxGX = (PRUMER_D/2)+4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AxGZ = 2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50 G01           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AxGX = (PRUMER_D/2) AxGZ = -2    " Sražení 2x45 stupňů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60 AxGZ = -(DELKA_H + 3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70 G11 RoundR = 1                   " Zaoblení 1 m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80 G01 AxGX = ((PRUMER_D/2) - 10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AxGZ = -DELKA_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90 G91 X-20  Z3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400 G90 G00 G40 Z20                  " Z do bezpečné vzdálenosti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410 M5                               " STOP vřeten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 E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084640"/>
            <a:ext cx="78487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makrocyklu jsou použité parametry PRUMER_D,  DELKA_H,   RYCHLOST,  OTACKY, které jsme zadali v dialog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zvy těchto parametrů jsou definované v hlavičkovém souboru OBRUC.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lavičkový soub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71192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ázvy parametrů jsou definované v hlavičkovém souboru OBRUC.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2924280"/>
            <a:ext cx="66978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" *** Parametry a makra pro tvar OBRUC1.NCP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#MAC(MACRO_OBRUC.N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NoMacro_OBRUC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"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DELKA_L        R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DELKA_H        R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PRUMER_D       R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PRIDAVEK_P     R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RYCHLOST       R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OTACKY         R1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9480" y="6251400"/>
            <a:ext cx="70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to hlavičkový soubor je automaticky připojen k partprogramu, který vytvořil dial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Jak začí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446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yjdeme z požadavku vytvořit program, který by obráběl obruč kola na karuselu.  Pro jednoduchost uvedeme jen část programu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84800" y="1700280"/>
            <a:ext cx="341640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511920" y="3860640"/>
            <a:ext cx="42897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10  R10=500  „Poloměr obru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11=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„Délka  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100  G01 G95 M3 S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110  XR10=550  F0.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120  ZR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Jak hlavičku připojit k partprogramu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5640" y="3141360"/>
            <a:ext cx="7777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${registry::Write} "HKLM\Software\MEFI\WinCNC\Machine\Channels\Channel0\PartProg""AdditionalInlFiles" "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bruc.nch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$\n" "REG_MULTI_SZ"$R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320480" y="1643040"/>
            <a:ext cx="37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Zápis do souboruPLC.N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2205000"/>
            <a:ext cx="7129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Fil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/oname=Include\Obruc.nch"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..\Include\Obruc.nc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Delet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$INSTDIR\Include\Obruc.nc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ýsledek dialog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914720" cy="36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3375000"/>
            <a:ext cx="4248000" cy="317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č uživatelské tv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31640" y="1827000"/>
            <a:ext cx="73515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 partprogramy bychom změnily R10 a R11 a bylo by hotovo. U několika málo parametrů by to bylo možné, častěji je však třeba nastavit více parametrů – využijeme pevné tvar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ýhod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hledné zadávání parametrů podle okótovaného obráz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ožnost změnit jen některé parametry, ostatní se „pamatují“ z předešlého zadání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ožnost úschovy všech parametrů pod libovolným názvem a následně je kdykoli vyvolat a použít bez toho, aby se musely znovu všechny zadáv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ožnost zkontrolovat zadávané hodnoty na povolený rozsah, čímž se sníží riziko zadání chybné hodnoty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stup tvorb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844640"/>
            <a:ext cx="799308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áme hotový parametricky zadávaný partprogram, který řeší náš případ. Partprogram si můžeme odladit a odzkoušet, aby byl správný. Následně jej přepíšeme do tvaru jako makrocyklus – to je jednoduch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  PROGRAM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  END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krocykl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  BEGIN(číslo mak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še ostatní zůstane stej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Ovládaní softwarovám tlačítke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oft. tlačítkem vyvoláme dialog, kde se zadají parametr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ygeneruje partprogram, který zavolá námi vytvořený makrocyklus a předá mu parametry, které,které jsme zadali do okének dialog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 stisku tlačítka START se partprogram odjede.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ředpokládá se možnost vytvoření samostatného softwarového tlačítka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ialog bude vytvářet tvůrce PLC, t.j. veškeré nově vytvořené  soubory (*.HTML, *.NCP, *.MAC atd.)  budou přidané do adresáře  CNC Machine Files, resp. jeho podadresářů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šechny přidané soubory musí být začleněny do projektu PLC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ytvoření nového softwarového tlačítka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 systému je k dispozici tlačítk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Tvary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nové softwarové tlačítko  přidáme za toto tlačítku a nazveme ho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Uživatelské tvary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3500280"/>
            <a:ext cx="8064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lačítko se v našem příkladu „přidá“ do souboru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an.Softmenu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kud existují jazykové lokalizace, existují ještě i soubory, kde je za „Man“ přidána tříznakové rozlišení jazykové verze. Např. soubor nazvaný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ManCSY.Softmenu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 je česká verze,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ManENU.Softmenu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je anglická verze atd. V tom případě je vhodné nové tlačítko přidat do všech souborů.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797360"/>
            <a:ext cx="79930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zhledem k tomu, že soubor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anCSY.Softmenu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je k dispozici pouze v instalačních adresářích systému, t.j. v adresář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C:\Program Files\MEFI\WinCNC\Soft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usí se (při instalaci PLC)  zkopírovat do adreář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C:\CNC Machine Files\Soft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753160" cy="47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C.NS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844640"/>
            <a:ext cx="8244000" cy="36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kopírování souboru ManCSY.Softmenu při instalaci PLC se zajistí v souboru PLC.N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části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Function InstallPlcFile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přidáme řádek (celý  příkaz musí být v jednom řádku!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File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"/oname=SoftMenu\ManCSY.SoftMenu" "..\SoftMenu\ManCSY.SoftMenu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zhledem k tomu, že se musí zajistit i odinstalování PLC, přidá se do téhož souboru v čá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Function unInstallPlcFile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ještě tento řád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Delete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"$INSTDIR\SoftMenu\ManCSY.SoftMenu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Úprava Soft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1640" y="1827000"/>
            <a:ext cx="735156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 souboru </a:t>
            </a: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ManCSY.SoftMenu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, který jsme přidali do projektu PLC provedeme úpravu přidání nového tlačítka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oto je standardní tlačítko Tvar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SoftMenuItem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Text&gt;Tvary&lt;/Text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Dialog&gt;Macro&lt;/Dialog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/SoftMenuItem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oto přidám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SoftMenuItem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Text&gt;Uživatelské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Br/&gt;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tvary&lt;/Text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Dialog&gt;UserMacro&lt;/Dialog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/SoftMenuItem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gistrace tlačít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827000"/>
            <a:ext cx="83883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dáním čtyř řádků vytvoříme předpoklad pro vznik nového tlačítka s nápisem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„Uživatelské tvary“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ialog nazveme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UserMacro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by tlačítko bylo skutečně funkční, je potřeba ještě dialog UserMacro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aregistrova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ud by se neprovedla registrace, tlačítko by se sice zobrazilo, ale nijak by nereagoval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egistrace se provádí zápisem do registrů Windows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Ekrt</cp:lastModifiedBy>
  <dcterms:modified xsi:type="dcterms:W3CDTF">2009-12-10T14:30:25Z</dcterms:modified>
  <cp:revision>51</cp:revision>
  <dc:subject/>
  <dc:title>Snímek 1</dc:title>
</cp:coreProperties>
</file>