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5D46-3D06-4463-9D7B-B2FE1883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94B8-ED71-4F34-9E13-D0C23473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4053-B806-46F7-979C-9654688C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B522-54FE-42DC-A2ED-2E62F4ED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0884-DB73-453F-9BA9-A390B7BE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F7E7-1E37-47F8-BCC3-06840415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AE78-DE31-4BD1-A46B-D26F9452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9AB9-DF8A-4AD8-9EB9-4747BF87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4B63-50A1-4396-BF64-53CD52C6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FA78-6ED7-44F3-9E08-F3001E29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3812-2CF7-43F0-9840-A19CD47D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A7D3-6C34-4CAC-8B42-861F3D04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07EF-86A0-4E7C-8053-57BA6718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8E11-DF56-4C4D-AAAA-F3CED036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E13C-ECC1-429A-8724-0526D95D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0028-3868-4D0B-A6D7-82F5122F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6FA8-3DE9-4563-A50A-82C9FE69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C437-4B22-42F2-9001-CBF987B3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3E5F-760C-487C-BE48-FA021F8C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D802-6218-45C8-96DE-A74348EB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9B87-83BA-470E-8268-407F72CC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936C-9AEC-4DA2-BB8D-CC06E65F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376A-A4D0-46A1-8A40-4BC7FA1C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F152-C109-4E9C-8F7D-289D9C84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E53B-2E3E-40D1-B5B7-4BDE78B7B1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C76C-CA8C-44A0-9654-FF35D3B775A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Řídící systémy řady CNC872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lastnosti, principy, základ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ransforma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73120" y="2421000"/>
          <a:ext cx="6942240" cy="31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2421000"/>
                    <a:ext cx="6942240" cy="31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gramová transforma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becná lineární transformace v prostoru (pro geometrické osy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rčená pro využití program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říklady použití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nožení/natočení dílčího tvar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místění dílčího tvaru (posunutí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ransformace polotovar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becná lineární transformace v prostoru (pro geometrické osy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rčená pro „ustavení polotovaru“: program je napsaný „pro polotovar“, posunutí/natočení polotovaru řeší transformace polotovar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Délková korekce / 5-osá transformac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orekce délky nástroj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troje bez naklápění nástroje – „obyčejná“ délková korek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origuje délku nástroje pouze v jeho základní poloz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troje s naklápěním nástroje –      5-osá transformac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origuje délku nástroje v závislosti na jeho natočen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osunutí 1, 2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 všechny interní os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rčeno pro posunutí daná konstrukcí stroj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říklady použití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va pracovní prostory (současně se obrábí a připravuje další polotovar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íce držáků nástroj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íce trysek či hořák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místění soubor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ubory se ukládají do tří složek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živatelské“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rojní“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stalační“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ři hledání souboru (podle jména) se systém „dívá odshora“ a „bere to co první uvidí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šechny tři složky používají identickou strukturu podadresář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živatelské“ soubo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Vytváří a mění uživatel, případně výrobce stroj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Obvyklé umístění:</a:t>
            </a:r>
            <a:br>
              <a:rPr sz="2100"/>
            </a:b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Courier New"/>
              </a:rPr>
              <a:t>D:\CNC User Fi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Umisťují se sem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Uživatelské soubory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C programy, tabulky upravované uživatelem, uživatelská nastavení,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Soubory specifické pro stroj (konkrétní kus!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nfigurace specifická pro daný kus (SLS, uspořádání stroje, 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elineární korek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rojní“ soubo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ytváří výrobce stroj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bvyklé umístění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C:\CNC Machine Fil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Umisťují se sem soubory, které přizpůsobují řídící systém dané aplikaci (typu stroje), např.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Společná konfigura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LC, definice PLC chyb a konsta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Soubory makrocyklů a pevných cyklů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Soubory pro přizpůsobení uživatelského rozhran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stalační“ soubo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ytváří firma MEF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bvyklé umístění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C:\Program Files\MEFI\WinCN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Umisťuje se s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lastní kód softwaru řídícího systém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ýchozí soubory uživatelského rozhran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ýchozí konfigura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onfigura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Konfigurace řídícího systému se ukládá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o registru Window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o vyhrazených souborů, které zpravidla využívají XM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Osy a servosmyč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ometrické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ynchronní / asynchron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onfigura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onfigurace je v registru Windows rozdělena obdobně, jako soubory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Uživatelská“ část HKCU\Software\MEFI\WinCN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Strojní“ část</a:t>
            </a:r>
            <a:br>
              <a:rPr sz="2100"/>
            </a:b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HKLM\Software\MEFI\WinCNC\Mach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Instalační“ část</a:t>
            </a:r>
            <a:br>
              <a:rPr sz="2100"/>
            </a:b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HKLM\Software\MEFI\WinCNC\Insta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avíc sekce „Persistent“, kam se ukládají informace, které se neodstraní ani při odinstalaci softwar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okaliza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oftware řídícího systému umožňuje snadnou lokalizaci do libovolného jazyka (zatím čeština, angličtina, polština, němčina a ruština další dle potřeby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azyk se volí při intalaci, ale je možné ho změnit i dodatečně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žadavky na lokalizaci je potřeba zohlednit i při přizpůsobování stroje pro konkrétní aplikac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práva chyb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práva chyb je řešena jednotným způsobe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abezpečuje protokolování a zobrazování informací o chybách obsluz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šechny chyby se oznamují „správci chyb“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právce chyb“ předává inforamce o chybách dál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Do protokol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ro zobrazení chybového dialog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00400" y="2514600"/>
          <a:ext cx="2743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51460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práva chyb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42920" y="1797120"/>
          <a:ext cx="7416720" cy="45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97120"/>
                    <a:ext cx="7416720" cy="45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Členění chyb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Chyby lze rozlišovat na základě různých kritérií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ůležitost“ (kritická chyba, chyba, upozornění, …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oba trvání (jednorázové / trválé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Členění chyb dle „důležitosti“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Kritické chyb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 jejich výskytu nemůže řídící systém pokračovat v činnosti (nutno odstranit příčinu a restartovat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hyb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 odstranění příčiny je možné pokračov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Členění chyb dle „důležitosti“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pozorně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ři stupně „důležitosti“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n1 – nejdůležitějš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n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n3 – nejméně důležit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užívá se v případech, které nutně nemusí, ale za určitých okolností mohou znamenat chybu, nebo mohou k chybě vé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Členění chyb dle „důležitosti“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forma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formují obsluhu o nějaké skutečnos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dálost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bvykle se nezobrazují, ale pouze zaznamenávají do protokol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užívají se k záznamu dění v řídícím systém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nadňují následné vyhodnocování vzniklých problém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Členění chyb dle doby trvá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ednorázové“ chyb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yby, u kterých lze detekovat pouze jejich vzni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dul, ve kterém k chybě došlo, chybu oznámí (prostřednictvím správce chyb), ale neexistuje zde žádná zpětná vazba o předání informace o chybě uživatel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Členění chyb dle doby trvá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rvalé“ chyb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hyby, u kterých lze detekovat jak jejich vznik, tak jejich odezněn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formace o chybě je obvykle zobrazována po celou dobu trvání chyb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dul, ve kterém k chybě došlo, oznamuje jak vznik chyby, tak její odezněn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ěkteré trvalé chyby je možné „kvitovat“ – skryje zobrazené hlášení a volitelně oznámí kvitování chyby modulu, který ji oznámi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říklad trvalé chyby: „Nízký tlak vzduchu“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ní os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le hodnot, které lze nastavovat a číst z NC program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užívají se při přípravě program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ři z nich jsou vždy označeny jako geometrické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rogramování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ystémovými parametry AxI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Adresy dle konfigurace (syntaxe ISO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ostřednictvím geometrických 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značování a identifikace chyb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332000" y="2565360"/>
          <a:ext cx="7632720" cy="21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565360"/>
                    <a:ext cx="763272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dílená paměť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středek pro komunikaci mezi „panelem“ a moduly reálného času jednotlivých suport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Kus paměti“, kam lze přistupovat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Z PL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Z NC program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omocí prvků uživatelského rozhraní (zobrazování, editac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istují prostředky pro práci se sdílenou pamětí a synchronizaci přístup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dílená paměť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782720" y="2489040"/>
          <a:ext cx="6486480" cy="27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2720" y="2489040"/>
                    <a:ext cx="648648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dílená paměť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řístup do sdílené paměti se děje na základě ofset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ednotlivé buňky je potřeba nějak pojmenovat =&gt; „PLC konstanty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LC konstanty mohou být generovány „automaticky“ – snadný způsob přidělování sdílené pamět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mo sdílené proměnné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uje RTM nebo PL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ice obsahuj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dkaz na proměnno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yp proměnné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ozsah (může být i proměnný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ázev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řístup na základě jmén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LC tabul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rčeny k „volnému“ použit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ze definovat jejich struktur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K PLC tabulkám lze přistupovat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Z PL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Z NC program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Z uživatelského rozhraní (zobrazování hodnoty z PLC tabulky, editace tabulky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říklady použití: tabulka nástrojů, tabulka řezných parametrů, převodní charakteristika zadaná tabulkou, 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LC tabul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 současnosti až 10 tabulek současně, každá z nich může mít jinou strukturu a být použita k jinému účel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ata tabulky se načítají z XML souboru, lze načíst kdykoliv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ystém zabezpečuje ukládání provedených změ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ruktura PLC tabul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ibovolný počet řádků, řádky lze přidávat na konec a z konce odebír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čet sloupců je určen v definici struktu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Každý sloupec může mít definován textový identifikátor – umožňuje přidávat/odebírat sloupce bez nutnosti změny kód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ruktura PLC tabul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116000" y="1989000"/>
          <a:ext cx="7777080" cy="22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89000"/>
                    <a:ext cx="7777080" cy="22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živatelské rozhra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87280" y="1628640"/>
          <a:ext cx="6985080" cy="503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28640"/>
                    <a:ext cx="6985080" cy="50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C os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 NC osami pracuje modul reálného čas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hou být připojeny k interním osám – z toho se odvodí jejich chování (geometrické / synchronní / asynchronní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hou být řízeny z PL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živatelské rozhra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nadno přizpůsobitelné konkrétní aplikac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ro řízení vzhledu se používají soubory ve formátu HTM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peciální požadavky lze řešit pomocí plug-inů, pro něž existuje otevřené rozhra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živatelské rozhra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7690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dikáto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misťují se po okrajích plochy, které zbude po umístění softwarového men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mění se „volbou indikace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sou viditelné i při zobrazení dialog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mohou být řízeny pomocí softwarového men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ozvrže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kna rozvržení se umisťují na plochu, která zbude po umístění softwarového menu a indikátor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ze měnit volbou indika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kna rozvržení mohou být částečně či zcela zakryta dia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aždé okno rozvržení může mít vlastní podmenu softwarového men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olní softwarové men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bsahuje všeobecné příkazy pro řídící systé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ednotlivé příkazy nemohou mít vazbu na okna rozvrže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ukturu lze upravit pomocí XML souborů s definovaným obsah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avé softwarové men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579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bsahuje příkazy s vazbou na jednotlivá okna rozvrže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izpůsobitelnost záleží na oknech, pro která je určen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dmenu pro jednotlivá okna jsou přístupná pomocí tlačítek označených symbolem umístění okn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308720" y="2349360"/>
            <a:ext cx="144144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ometrické os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Tři osy, které v daném okamžiku definují prost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ogramovaná rychlost platí pro výsledný pohyb určený geometrickými osam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Lze přepínat z NC program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ogramování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Systémovými parametry AxGX, AxGY a AxGZ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Adresy dle konfigurace (syntaxe IS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ometrické os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ýznam geometrických 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Jednoduché“ stroje – pevné přiřazení konfigurací: pouze definují prost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 „složitějších“ strojů lze přepínat podle momentálního uspořádání obráběn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ynchronní / asynchronní os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C osy, které momentálně nejsou geometrické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ynchron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hyb začíná a končí současně s pohybem geometrických 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nchronizace probíhá podle poloh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synchron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hyb startuje zpravidla PL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Jedou „svojí“ rychlost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esta programovaných hodno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1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1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55640" y="1144440"/>
          <a:ext cx="8099280" cy="592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44440"/>
                    <a:ext cx="80992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ransforma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rogramová transforma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ransformace polotovar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élková korekce / pětiosá transforma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sunutí 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sunutí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trojní transforma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06:49Z</dcterms:created>
  <dc:creator>Jiří Hoffmann</dc:creator>
  <dc:description/>
  <dc:language>en-US</dc:language>
  <cp:lastModifiedBy>Jiří Hoffmann</cp:lastModifiedBy>
  <dcterms:modified xsi:type="dcterms:W3CDTF">2009-12-06T20:57:56Z</dcterms:modified>
  <cp:revision>29</cp:revision>
  <dc:subject/>
  <dc:title>Snímek 1</dc:title>
</cp:coreProperties>
</file>