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09F-CB08-48D8-97BB-20B831E8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447-711F-4089-B1C1-61A70A82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182-3F7D-4B3E-B9B5-AF7F6438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9F7-38A7-4F55-BDD3-10C23135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AF69-C4CA-4CC8-AD48-A8C1E54C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431B-E5EF-4CBF-B6D9-31E7DB3F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F6F7-2BFF-4B46-9E66-9B8088F7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F675-4100-4DA9-96E9-5C00807E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7992-8C55-420B-811E-B78A56C2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91EC-2454-4A7A-9530-39A1F4C2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D203-4B45-4086-84BA-7DC40D85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F38-D73D-4931-9455-788538C1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E1FD-54D2-48E3-BF68-A6B00E62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FBFA-2012-4DEB-9560-0A5E8D71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F135-6856-4AB1-83F4-3BE6B7DA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490A-9AD2-42E7-845F-2A6F22C3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EDDC-37AC-4DFD-9787-01337826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01E-3225-485C-977F-6FBE0CA6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339-0B0B-4593-B2D8-4A4AA87A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E10-E7B3-4D47-A5FB-052E67B0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701-7ECB-4445-8DF3-F444E55B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90F-2429-4C39-942E-CAC80FB4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CFB-6DBE-4C55-B525-F25F2306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026-4960-44B7-8AD0-7B595BB4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E66D-3B6F-4D71-B106-EAF613BE82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3A9D-B373-4EE9-A01A-C2C14F6002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C programování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Úvod, nové vlastnosti, preprocesor, systémové parametry, funk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a - další možnos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ozvoj makra je možné rozdělit na více řádků – pokud se na konec řádku s definicí makra vloží znak „\“, bude načítání rozvoje makra pokračovat na dalším řádk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$ToolLen(X,Y,Z) \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LenX=X \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LenY=Y \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LenZ=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a – další možnos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pojení prvků v rozvoji makra bez mezery – v definici se prvky oddělí znakem „|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 definice makra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$LINE(AxX, AxY)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1 X|AxX Y|Ax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užítí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 LINE(10, 23.5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stup z preprocesor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 G1 X10 Y23.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a – další možnos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pracování preprocesorem je víceprůchodové – výstup z preprocesoru je zpracováván opakovaně tak dlouho, dokud je co nahrazov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$TOOLLENX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S270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 $TOOLLENY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S271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 $TOOLLENZ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S272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$ToolLen(X,Y,Z) \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LenX=X \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LenY=Y \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LenZ=Z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a – další možnos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užití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Len(0, 0.9, 34.1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stup prvního průchod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LenX=0 ToolLenY=0.9 ToolLenZ=34.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stup druhého průchod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S270=0 S271=0.9 S272=34.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a – definice „proměnné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peciální text makra „IPARAM“ a „RPARAM“ umožňuje definici celočíselných a reálných proměnný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e skutečnosti se jedná o pojmenované celočíselné a reálné péaramet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mplementace na úrovni preproceso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a – definice „proměnné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$PartCnt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PARAM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$PartLe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PARA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ozvoj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artCnt =&gt; In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artLen =&gt; Rn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de n je automaticky generované číslo paramet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lavičkové soub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ndardně mají příponu N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užívají se pro definice, které mají být opakovaně použitelné z více NC program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ejich vkládání provádí preprocesor a  to tak, že na odpovídající místo vloží celý text hlavičkového soubo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kládání hlavičkových soubor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mplicitní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a základě konfigur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žadované hlavičkové soubory se vloží na začátek všech načítaných NC program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xplicitní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mocí direktivy #IN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#INL(Definitions.nch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ioritní blo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lavní progra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program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akrocyk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evné cyk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ioritní blo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Blok uložený ve zvláštním souboru (obvykle PriorityBlock.nc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užívá s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 centrální anulaci – program, který obsahuje jediný blok (prioritní blo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o první blok každého programu (nevykovává se, ale určuje výchozí podmínk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Má určité zvláštnosti, např. v něm nesmí být programován pohyb, skok či volá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lepš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plněn preproces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zšíření syntaxe oproti „ISO“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stémové paramet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k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vé způsoby programování pohybu (zaoblení, zkosení, tečně napojená kružnice, 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nsform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lavní progr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ačíná na začátku NCP souboru, který je určen při volbě program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ončí blokem, ve kterém je programováno M02, M30 či ENDPROG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říkla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 PROGRAM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G0 X0 Y0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G1 X30 Y10 F1000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 ENDPROG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program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Musí být ve stejném souboru, jako hlavní progr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Musí být až za hlavním program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číná blokem s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Begin(SubNo)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nebo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79 LSubNo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kde SubNo je číslo podprogra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čí blokem s End nebo G7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akrocyk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Musí být v souboru, který bude systém načítat jako soubor s makrocyk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ubory makrocyklů lze specifikovat v konfiguraci, nebo pomocí direktivy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#MAC(MacFile.ncp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číná blokem s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Begin(MacNo)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nebo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79 LMacNo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kde MacNo je číslo podprogra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čí blokem s End nebo G7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evné cyk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Musí být v souboru, který bude systém načítat jako soubor s pevnými cyk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ubory pevných cyklů lze specifikovat v konfiguraci, nebo pomocí direktivy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#CYC(CycFile.ncp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číná blokem s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Begin(CycNo)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nebo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79 LCycNo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kde CycNo je číslo podprogra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čí blokem s End nebo G7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 - rozdíl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zpoznávají se podle souboru, ze kterého se načítaj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i volání musím vědět, jaký programový celek chci vol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dlišné výchozí nastavení toho, co se po návratu z daného celku obnoví do původního stavu (lze změni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lok začíná adresou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loky mohou, ale nemusí být číslová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íslování je poviné pro bloky, na které má směřovat sko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íslování musí být jedinečné v rámci jednoho programového cel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stup vykonávání operací v blok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jprve se vykonají „parametrické operace“ (operace s parametry, funkce) v pořadí, v jakém jsou uvede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ásleduje vyhodnocení adres podle syntaxe IS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 závěr se provede skok či volání (pokud je programován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 NC programech je možné použít tři pole parametrů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ločíselné – pro obecné použití, práce s celými čís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álné – pro obecné použití, práce s reálnými čís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stémové – přesně definovaný význam, slouží pro čtení či nastavování hodnot používaných při zpracování NC progra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eločíselné 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ápis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n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de n je číslo parametru, např.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5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ze použít všude tam, kde může být celé číslo, např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I1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stavení hodnoty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100=4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álné 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ápis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n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de n je číslo parametru, např.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5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ze použít všude tam, kde může být reálné číslo, např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XR1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stavení hodnoty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100=2.35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lepš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ametrické programová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žnost řízení dynamiky z NC program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vé způsoby řešení poloměrové korek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vé prostředky pro komunikaci s PLC (PLC tabulky, sdílená paměť, 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ování v mm nebo palcí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stémové 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ze zapisovat jako Sn, kde n je číslo parametru, tento způsob se však nepoužívá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šechny systémové parametry jsou pojmenovány pomocí maker preproceso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stémové 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 každý systémový parametr je definován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ýzn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da je možné jej čí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da je možné jej zapisov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 (celočíselný/reálný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stémové 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y systémových parametrů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AxGX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programovaná poloha geometrické osy X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Radius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poloměr nástro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Feed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programovaná rychlo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FeedOvr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programovaný override rychl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IPLC0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celočíselná hodnota pro PL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geometrické os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ystémové parametry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AxGX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AxG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AxGZ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gramovaná poloha geometrických 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ápis – programování koncové míry v daném bloku (alternativa k syntaxi ISO), ve skutečnosti nastavuje interní osy, ale podle aktuálního přiřazení geometrických 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Čtení – čtení programované koncové míry v daném bloku (pozor na pořadí prováděných operací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evztahuje se na ně režim absolutního / relativního programování (G90/91)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stémové parametry – interní o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ystémové parametry AxIn (n je index interní osy: 0..8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gramovaná poloha interních 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ápis – programování koncové míry v daném bloku (alternativa k syntaxi IS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Čtení – čtení programované koncové míry v daném bloku (pozor na pořadí prováděných operací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evztahuje se na ně režim absolutního / relativního programování (G90/91)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orientace nástroj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arametry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X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Y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gramovaný jednotkový vektor orientace nástroje na konci blok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užívá se při zapnuté pětiosé transformac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Alternativa k syntaxi I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BevelAngle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úhel naklopení nástroje v rovině kolmé k trajektorii pohybu, alternativní způsob programování orientace nástro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parametry interpola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CX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CY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CZ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místění středu kružnice ve směru jednotlivých os, zadané relativně vzhledem k počátečnímu bod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R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oloměr kružn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Rev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očet otáček kružn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HLen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hLenT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Délka zkos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oundR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oloměr zaobl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Systémové parametry – nástroj a jízda po ekvidistantě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LenX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Len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LenZ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délka nástroje v jednotlivých osách (vektor délkové korekc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Radius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Poloměr nástro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qdOffs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Posunutí pro jízdu po ekvidistantě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CMethod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CChangeMethod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CAngl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COptions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Parametry pro řešení poloměrové korek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NP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orientace špičky nástroje (pro soustruh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stémové parametry - rychlo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Fee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rogramovaná rychlost (obdoba adresy F podle IS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FeedOvr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rocentuelní změna programované rychlosti oproti Feed (ovlivňuje výslednou programovanou rychlost, nesouvisí s potenciometrem „Feed Override“!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otáčky vřeten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SpindleSpee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rogramované otáčky vřetene (obdoba adresy S podle IS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SpindleSpeedOvr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rocentuelní změna programovaných otáček vřetena oproti SpindleSpeed (ovlivňuje výsledné programované otáčky, nesouvisí s potenciometrem „Speed Override“!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stup překlad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2349360"/>
          <a:ext cx="8497800" cy="39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8497800" cy="39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dynamické řízení rychlost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louží pro nastavení způsobu a parametrů rampování, parametrů pro určení rychlosti na přechodu mezi bloky a parametrů pro určení max. rychlosti na kružni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adávané hodnoty jsou omezeny rozsahem daným konfigurac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AccelerationType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arabAccel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LinearAccel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ransitionFee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průměrové programování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rčeno pro soustru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DiameterProgr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TRUE/FALSE – použít/nepoužít průměrové programování při absolutním reži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DiameterIncProgr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TRUE/FALSE -  použít/nepoužít průměrové programování při aditivním reži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platní se pouze při programování podle syntaxe I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užije se pouze pro osy dle konfigur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volba jednote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LengthUnit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(Metric/Imperial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rčuje jednotky pro zadávání rozměrů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etric = m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Imperial = pal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užívá se pouze pro míry „podle výkresu“ (např. geometrické osy či parametry kružnice), ale ne pro míry dané strojem či nástroje (např. poloměr nástroje či posunutí 1 a 2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volba jednote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FeedUnit (Metric/Imperial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rčuje jednotky pro zadávání rychlostí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etric = mm/m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Imperial = palec/m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užívá se pro zadávané rychl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volba jednote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ngleUnit (Radians/Degrees/Grad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rčuje jednotky pro zadávání úhl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- transforma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mocí systémových parametrů jsou dostupné všechny prvky transformačních matic programové transformace a transformace polotovaru a prvky vektorů posunutí 1 a posunutí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stémové parametry - PL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IPLC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…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IPLC4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 celočíselné parametry pro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PLC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…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PLC4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 reálné parametry pro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dnoty těchto parametrů se předávají do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 libovolné použití, záleží na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ádějí složitější operací než jenom zápis/čtení hodno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tematické a logické funk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Řízení vykonávání programu (podmínky, skoky, …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Řízení transformac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áce s PLC tabulkami a sdílenou pamět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yby, upozornění, inform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tematické funk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čítání, odčítání, násobení, dělení, unární mínus (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lus, Minus, Multiply, Divide, UMinus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, lze však také běžným způsobem používat operátory „+“, „-“, „*“ a „/“, např.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AxGX=-R1+3.4*R8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1=I1+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tematické funk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rovnání dvou hodnot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q, NEq, Less, LE, Greater, G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ogické operace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ot, And, Or, Xor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Bitové operace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BNot, BAnd, BOr, BXor, Shl, Shr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evod celého čísla na reálné a obráceně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l, In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okrouhlování, celá a desetinná část čísla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ound, Trunc, Tenths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eproces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acuje na úrovni textu (nemá žádné informace o významu textu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vádí textové zámě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ožňuje textové vložení dalších soubor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ožňuje specifikovat soubory, ze kterých se budou načítat makrocykly a pevné cyk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tematické funk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solutní hodnota, druhá mocnina a odmocnina (Abs, Sqr, Sqr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xponenciální a logaritmické (Exp, Exp2, Exp10, Log, Log2, Log10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Goniometrické (Sin, Cos, Tan, ASin, ACos, ATa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epodmíněný skok (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Jmp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kok na blok (v rámci jednoho programového celku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kok se provede až po vykonání bloku, ve kterém je programová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100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Jmp(200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200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0 X0 Z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olání podprogramu, makrocyklu nebo pevného cyklu (Call, CallMacro, CallCyc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olání se provede až po vykonání bloku, ve kterém je programová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N Call(100)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N Begin(100)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N E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stavení vlastností podprogramu, makrocyklu nebo pevného cyklu (SubOp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louží k volbě, co se má obnovit po návratu z podprogramu / makrocyklu / pevného cyklu do stavu před volání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ze obnovit: typ interpolace, pracovní rovinu, parametry korekcí, programované G a M funkce, rychlost, otáčky, transformace,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Úchova celočíselných/reálných parametrů v podprogramu, makrocyklu nebo pevném cyklu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reserveI, PreserveR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olá se na začátku podprogramu, makrocyklu či pevného cykl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Uloží zadaný rozsah celočíselných / reálných parametrů a obnoví ho při návratu z daného programového celk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užívá se tehdy, pokud lokální výpočet nemá změnit parametry platné v době volá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Úchova parametrů – příklad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Begin(20) PreserveR(10, 15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10=AxGX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11=AxGY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12=R10+5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13=R11+5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1 XR10 YR13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1 XR12 YR13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1 XR12 YR11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1 XR10 YR10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E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mínky (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f, Else, EndIf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ždy začíná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if(podmínka)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kde podmínka je libovolný celočíselný výraz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nenulová hodnota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nu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ždy končí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ce za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se provedou, pokud je podmínka splněna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, operace za Else se provedou pokud podmínka není splněna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je nepovinné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mínky – příklad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f(I1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1=30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2=50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1=-30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2=-50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práci s chyba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známení chyby (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rr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pozornění,  tři „důležitosti“ (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Wrn1, Wrn2, Wrn3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nformace (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pracovávají se už při přípravě programu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práci s chyba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Funkce Err ukončí přípravu NC programu a zobrazí zadanou zpráv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 zprávy je možné vložit parametry (celočíselné či reálné hodnot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íklady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rr(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říliš velká hodnota:\r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,R8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rr(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říliš mnoho opakování:\i‘,I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o bez parametr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žadavek na záměnu jednoho řetězce za jin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ce: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$MACR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RO – co se má nahra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XT – čím se to má nahra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práci s chyba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Funkce Wrn1, Wrn2, Wrn3 a Info zobrazí zadanou zprávu, ale na rozdíl od funkce Err neukončí přípravu program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ozdíly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iný způsob zobraze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Různá pravidla pro filtrová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Různá pravidla pro logová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Funkce pro z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razov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ání zprá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obrazení zprávy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MsgSho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krytí zprávy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MsgHid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 zobrazení/skrytí zprávy dojde až při vykonávání programu, na začátku blok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vní parametr obou funkcí představuje „identifikátor“ zprávy (více zpráv zobrazených současně – každá musí mít jiný identifikátor, MsgHide s identifikátorem 0 skryje všechny zpráv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 zpráv je možné vkládat paramet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zobrazování zprá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 MsgShow(1,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1:\r,I1:\i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,R1,I1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MsgShow(2,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‘Vrt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ání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MsgHide(2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MsgShow(3, ‘Z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ávitování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’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MsgHide(0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kce pro programování G a M funkcí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gramování G funkcí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rogrG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, programování M funkcí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rogrM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užití všude tam, kde není možné použít syntaxi ISO, zejména v podmínkác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If (I1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rogrG(41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lse 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rogrG(42) 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kce - nastavení geometrických 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mocí funkce SetGAx lze nastavit, které interní osy budou geometrick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ako geometrické osy lze nastavit pouze ty, pro které to povoluje konfigur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SetGAx(0, 3, 2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X – osa 0, Y – osa 3, Z – osa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práci s transformace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Funkce se dělí podle toho, zda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acují s programovou transformací (např.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, nebo transformací polotovaru (např.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WTranslat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dle toho, zda nastavují transformaci absolutně (např.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, nebo aditivně (např.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ATranslat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práci s transformace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sunutí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ranslate(x,y,z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otace okolo jednotlivých os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otateX(úhel)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otateY(úhel)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otateZ(úhel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měna měřítka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Scale(měřítk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rcadlení ve směru jednotlivých os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MirrorX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MirrorY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Mirror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– čtení PLC konsta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mocí funkce GetPlcConst lze načíst hodnoty PLC konst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užívá se např. při rozdělování sdílené pamě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10=GetPlcConst(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‘OFFS_R_TIME’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– práce s PLC tabulka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jištění počtu PLC tabulek: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TCou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jištění počtu řádků a sloupců dané tabulky: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TLinesCoun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TColsCou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jištění a změna zvoleného řádku: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TGetSelLin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TSetSelLi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jištění indexu sloupce na základě identifikátoru sloupce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TGetColIndex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– práce s PLC tabulka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jištění typu pro sloupec PLC tabulky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lcTColTyp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tení hodnoty z PLC tabulky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lcTGetInt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lcTGetRe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ápis hodnoty do PLC tabulky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lcTSetInt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lcTSetRe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o bez parametrů - příkl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říklad programu: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$RAPID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G00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$LIN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G01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 RAPID X0 Y0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 LINE X30 Y2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ýstup z preprocesoru bude: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 G00 X0 Y0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 G01 X30 Y2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kce – práce se sdílenou pamětí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tení/zápis hodnoty ze/do sdílené pamě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Funkce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ReadIn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ReadReal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WriteIn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WriteRe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vádí se při přípravě programu (zápis změní hodnotu i v případě, že vůbec nedojde k odstartování daného bloku!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kce – práce se sdílenou pamětí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tení/zápis hodnoty ze/do sdílené pamě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Funkce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ReadInt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ReadReal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WriteInt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WriteReal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vádí se teprve po odjetí předchozího blok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– přímo sdílené proměnn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tení hodnoty přímo sdílené proměnn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Funkce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PlcVarIn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PlcVarReal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RtmVarIn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RtmVarRe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vádí se při přípravě programu, vhodné pro čtení proměnných, jejichž hodnota se v průběhu zpracování a jízdy programu nemě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– přímo sdílené proměnn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tení hodnoty přímo sdílené proměnn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Funkce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PlcVarInt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PlcVarReal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RtmVarInt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RtmVarReal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vádí se teprve po odjetí předchozího blok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Cyklus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   I1 = PocetKusu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10  If ( Not(Greater(I1, 0)) 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       Jmp(20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     EndIf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   ATranslate(OfsX, 0, 0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   CallMacro(MAC_Tvar1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   I1=I1-1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   Jmp(10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20 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mínka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1 X… Y…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1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f (Vpravo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AxGX = AxGX + 5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AxGX = AxGX – 5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ndIf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1 X… Y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mínka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1 G91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f (Vpravo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X5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X-5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ndIf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Špatně! Adresy podle syntaxe ISO se vyhodnocují až na konci bloku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o s 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ce makra obsahuje navíc tzv. formální paramet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ální parametry v rozvoji budou nahrazeny skutečnými parametry uvedenými při „volání“ mak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o s parametry - příkl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 makra (začátek podprogramu, makrocyklu nebo pevného cyklu)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$BEGIN(SubNo)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79 L|SubN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užití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 BEGIN(20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stup z preprocesoru bude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 G79 L2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Hoffmann</cp:lastModifiedBy>
  <dcterms:modified xsi:type="dcterms:W3CDTF">2009-12-06T21:37:39Z</dcterms:modified>
  <cp:revision>38</cp:revision>
  <dc:subject/>
  <dc:title>Snímek 1</dc:title>
</cp:coreProperties>
</file>