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BBB-CA7E-4527-9E5C-2684A5F8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973-1832-4AD0-A7F2-9041CEDB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CD4-A449-4A11-9077-1E0DA6BA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21C-ECBE-4ADB-B2D7-4D13C046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72EB-E8CE-417B-BC14-E48E3A24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9884-1086-42CF-BEA6-CEE6E15B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28A0-1ECE-41F7-8BBF-A118BD7A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B286-8B1A-4578-84DD-BBA1F118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D972-F560-4671-9530-2DFCDA26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0247-7253-4FC6-AD49-16876760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CF4F-DF7C-4411-9537-08EF023F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07E-CA1E-4931-AE38-0488614A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EFA7-7F27-4FE4-90BB-CADDA060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2548-B858-4A23-B420-69F895F5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9DE9-FC9D-47F2-AC81-2E72700B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EDFC-B0C6-4312-9479-D77C5877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5DF4-D928-4F77-AC19-383CEDAF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760-A710-485C-A775-B81D1FA1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879-6605-4708-B1BA-A93B19D9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649-BE11-4AD1-8693-A857183B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6C5-6349-45BD-AEAE-AEC475FA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CA2-867A-4F9E-BB22-B641195A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9E7-82D8-4E9D-B67F-A698FC5A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6BD-DD59-495F-90BB-C825FC2B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1E76-8EA9-4242-814B-581301BA41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F13D-D0F7-4033-BD4C-FD59A65C01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Windows XP embedded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lastnosti, instalace, zálohování a obnov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Instalace WinCN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202440" cy="45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votní konfigu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ozlišení obrazovky, popř. další paramet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nfigurace průzkumníka Windo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stavení lokaliz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alibrace dotykového senzo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stavit WinCNC jako „shell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apnout EWF (Enhanced Write Filte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tvoření „tovární zálohy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ovární zálohu lze později použít k návratu do stavu „z továrn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 bootování zvolit položku „Backup and Recover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utomaticky se spustí „MEFI CNC Setup and Recovery Wizard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tváření zálohy se spustí tlačítkem „Factory backup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áloha softwaru řídícího systé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áloha se vytváří pro případ SW či HW poškození dis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álohu nelze použít pro instalaci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áloha disku nenahrazuje zálohu projektu PLC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álohu nelze použít na jiném řídícím systé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ždy vytvořit před předáním stroje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tvoření zálo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 bootování zvolit položku „Backup and Recover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utomaticky se spustí „MEFI CNC Setup and Recovery Wizard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tváření spustit tlačítkem back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e možné zálohovat systémový a/nebo datový oddí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lohu lze uložit na externí médiu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nova ze zálo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noví systémový a/nebo datový oddíl do stavu v okamžiku vytváření zálo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cuje na diskové úrovni =&gt; přepíše celý systémový a/nebo datový oddí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nova ze zálo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 bootování zvolit položku „Backup and Recover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utomaticky se spustí „MEFI CNC Setup and Recovery Wizard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bnova se spustí tlačítkem „Restore from Backup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volit, co obnovovat (systém/dat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volit kde je záloha umístě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Enhanced Write Filter (EWF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užívá se pro systémový oddíl (C: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chrana před nežádoucími změnami obsahu disk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incip: změny provedené na disku se poznamenávají do RAM jejíž obsah se při vypnutí ztratí (po dalším startu bude systémový oddíl v původním stavu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poskytuje dostatečnou ochranu proti výpadku napájení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WF - ovládá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WF se zapíná po dokončení prvotní instalace softwaru příkazem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wfmgr C: -en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 změně systémové konfigurace, instalaci PLC či WinCNC apod. se musí změny uložit na disk příkazem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wfmgr C: -commit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(příkaz se provede při ukončování Window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Windows XP embedd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aloženo na „kancelářské“ verzi Windows X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eciální Verze Windos XP určená pro zabudování do zaříz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robce zařízení si může sestavit vlastní konfiguraci z existujících kompon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iný způsob licencová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roč Windows XP embedd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puštění některých komponent = menší nároky na HW (místo na disku, pamě‘t, …) a odstranění nežádoucích funkc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nazší instalace a následná správ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obrá lokalizovatelno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ednotné chování všech systém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e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dělení disk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773360"/>
          <a:ext cx="828036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28036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alace softwar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prava disku, instalace Windows XP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stalace driverů a aplikací, instalace WinCNC, prvotní konfigur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ovární záloha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říprava disku, instalace Win XP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bootovat z instalačního CD či USB flas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utomaticky se spustí „MEFI CNC Setup and Recovery Wizard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stalace se spustí tlačítkem „Setup / Full recovery“ (pozor, chvilku trvá!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jmout instalační médium a restartovat tlačítkem „Restart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Setup and Recovery Wizar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8180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alace driverů a aplikac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staluje se to, co není standardní součástí připraveného obrazu, tedy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rivery pro Touch Screen popř. VGA kart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rivery pro volitelná zařízení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Internet Explorer 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alší aplikace na přání zákazník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Instalace WinCN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ustit instalační program (WinCNCSetup_n_n_nnn.ex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ůležité volby jsou v posledním dialogu před spuštěním vlastní instal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apsat heslo do registru:</a:t>
            </a:r>
            <a:br>
              <a:rPr sz="2900"/>
            </a:b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ložka „Password0“ typu REG_SZ v klíči „HKEY_LOCAL_MACHINE\SOFTWARE\MEFI\WinCNC\Persistent\Channels\Channel0\Passwords“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instalovat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Hoffmann</cp:lastModifiedBy>
  <dcterms:modified xsi:type="dcterms:W3CDTF">2008-06-08T20:20:36Z</dcterms:modified>
  <cp:revision>9</cp:revision>
  <dc:subject/>
  <dc:title>Snímek 1</dc:title>
</cp:coreProperties>
</file>