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5CF-8AFB-45D0-A9E7-57BF3F31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26A-7D6A-46AB-BFDA-1B3FBAE9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F5C-B550-425C-8728-5FD81640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D33-2356-4E14-AC8A-B0459762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288E-7166-4399-A7CB-D0B7EA4C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BC1E-7683-4EF1-AFD8-D3DA7B89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1331-5369-4261-B1AD-3BFAFF50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8F8A-FF63-4E61-AEA7-315DC760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7BEC-4DEA-48D4-91C2-2D7C4B2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AE5B-E1C1-4A04-9E85-64774FFF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03DC-A16A-488D-86CA-DBDF79F3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930-1CC2-425D-B0A8-FACDC6C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8CB3-17FB-460C-8391-D6024AC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86AD-D007-4AFA-B138-D2E7D434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FABF-68B3-4A3D-9ADF-39D9F86F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84CF-1F84-473E-A725-69A23943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F0F6-8832-4F86-8BC1-0E9F787D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5D8-5B10-472A-B903-525D85CE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CEB-91E3-4A7B-9784-256590A8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8A3-F211-4CBE-8450-EDED9BB4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CF6-47BB-4DD6-9A3D-0C0C31B8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FAC-9691-469B-9FE9-1000ECCC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1ED-94A9-4C5C-B21F-62CD223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BED-1B14-40BE-B6AC-C8DA38B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8B53-23B8-45CA-8DBB-7B4FA7D609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C3BA-40EB-4112-8784-1EF7377A38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239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Tvorba bootovaciho</a:t>
            </a:r>
            <a:br>
              <a:rPr sz="4000"/>
            </a:b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USB flash disku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4080" y="2781360"/>
            <a:ext cx="785592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e každému systému je dodáván Recovery CD 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en se může použít k prvotní instalaci systému, resp. operační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ystému Windows XP Embedded, který používá řídicí systé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užití CD ROM  vyžaduje mít k dispozici  CD ROM mechani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hodlnější je připravit si  z  CD  bootovací USB flash di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třebujeme USB flash disk o kapacitě asi 4G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musí být prázdný, data se později smaž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vorbu bootovacího flash disku  si můžeme provést v kl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jakémkoli počítači, t.j. i na systé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 BIOSU nastavíme  bootování z CD RO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 nabootování jsou povolené ve Wizardu jen následující nabídky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382104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1 – příkazový řáde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pojíme USB Flash disk a z nabídky zvolí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jeví se příkazový řáde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X:\WINDOWS\SYSTEM32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adáme příkaz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X:\WINDOWS\SYSTEM3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gt;diskp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zn.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Diskpart - tímto nástrojem lze nastavovat  konfiguraci úložiště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znam příkazů pro Diskpart naleznete např. n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ttp://support.microsoft.com/kb/300415/c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019480" cy="48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1 – zjištění disk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773360"/>
            <a:ext cx="69325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bychom zjistili přehled všech připojených disků, zadáme pří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gt; List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 okně CMD by se mělo objevit např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5754600" cy="28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6732720" y="4941720"/>
            <a:ext cx="24112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sk 0 = disk systém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sk 1 = první USB d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sk 2 = druhý USB d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1  - fok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 přípravu bootovacího disku  připojujeme  jeden USB flash dis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Select disk = 1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astaví „fokus“ t.j. určení cílového disku, se kterým budou prováděny všechny příkazy, které nyní zapíše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detail disk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19640" y="3935520"/>
            <a:ext cx="5329080" cy="26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879480" y="430848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37000"/>
            <a:ext cx="31669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ískání  podrobnějších  informací o  daném disku.  Hvězdičkou je  označen fokusovaný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rok 1 - Cle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560" y="1827360"/>
            <a:ext cx="770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a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&gt; Clean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íše se: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iskPart succeeded in cleaning the dis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oříme na disku primární oddíl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a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&gt; create partition prima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íše 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iskPart succeeded in creating the specified parti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rok 1 – Aktivní oblast a formátován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628640"/>
            <a:ext cx="73436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stavíme vytvořený svazek jako ak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íše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iskPart marked the current partition a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ormátování souborovým formátem NT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format fs=NTFS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bel=”Recovery” qu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íše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00 percent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skPart successfully formatted the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2 – kopírování soubo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313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bootovací flash disk nyní zkopírujeme celý obsah  Recovery CD. Lze to provést na libovolném počítači s Windows XP např. Průzkumník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flash disku je nyní „vidět“ pouze adresář  System Volume Information, což je adresář, do kterého si Windows XP ukládají informace o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Bodech obnove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nástrojem pro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Obnovení systém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 adresáře nejde nahlédnou ani jej smazat (museli bychom nastavit přístupová práva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2 – kopírování soubo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827000"/>
            <a:ext cx="74502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sah Recovery CD ROM obsahu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dresáře: BOOT, DRIVERSANDAPP, EFI,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oubory: boot.bmp, boot.ini, bottmgr, instalation.pdf, instalationenu.pdf, setupandrecoverywizard.exe, wincncasshell.re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značíme „vše“ a zkopírujeme na USB flash dis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pírování trvá několik min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SB flash disk je připraven k použití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Ekrt</cp:lastModifiedBy>
  <dcterms:modified xsi:type="dcterms:W3CDTF">2009-12-05T11:21:50Z</dcterms:modified>
  <cp:revision>33</cp:revision>
  <dc:subject/>
  <dc:title>Snímek 1</dc:title>
</cp:coreProperties>
</file>