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71D-B934-4780-836D-4885168E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692-A568-4613-AE85-C734F44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BCE-B9F4-44D3-A2AA-2D8E9537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68F-D7F5-4453-B52D-60624F1E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5CD-2811-416A-89A8-1ECBDE28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2FC6-B3B1-491F-B442-98AA48FA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D9BB-AC25-4BE5-B2D5-B57BB6E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2C9-701D-4557-BF67-DF01AF3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14B-D90A-4F0D-8BD9-C429BD0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498C-579F-4B34-83C3-B640FED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684-733E-48A6-A345-37F37AA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B34-3D74-4467-90C5-26CEAAE6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4F3E-6CB0-4B11-96F1-D9392A7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729-4657-4C2F-939B-E7F5962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AB60-9225-4B18-A60D-E4909392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9039-BBFB-4A06-8594-38ADD029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0B2D-5739-4063-BAA6-D7F9A92D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001-99AF-4D67-9AA4-1D3DC1E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AD9-4BCD-4583-8F14-5F8778E8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B12-F134-4E61-A6E9-4D0655D5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6ED-7A56-4B59-93AC-65591D8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A64-08DD-4068-8C1B-FC071D5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FF3-77AC-4AD3-90EF-CA52532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958-B92C-4F35-AB97-5682B5B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152-22EF-49A4-9658-F2930467C3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A7C-78CA-47B5-8848-5C1AC9E151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vorba PLC dialog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ání nového dialogu a úprav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brazení parametrů do graf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měny hodnoty se ihned projevuj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užívá se JavaScri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2990880"/>
            <a:ext cx="69832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dialo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snadnění prá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duché zadáván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dné přizpůsobení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užití JavaScrip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kladní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Úprava dialogu Diagnostika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ze základní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3714840"/>
            <a:ext cx="4465800" cy="3031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05160" y="2924280"/>
            <a:ext cx="942840" cy="619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4680" y="2924280"/>
            <a:ext cx="94320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37160" y="2924280"/>
            <a:ext cx="943200" cy="61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3160" y="321156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29160" y="321156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8000" y="3743280"/>
            <a:ext cx="3816360" cy="299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5640" y="5229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gnostika vstupů a výstup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6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brazuje aktuální stavy jednotlivých vstupů a výstup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 stisku zobrazí 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 jednotlivých bite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2438280" cy="395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5084640"/>
            <a:ext cx="1582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5445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tlačítka do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obrazení hodnoty do tlačítk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…</a:t>
            </a: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DiagInputs0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ázev dialogu se musí přidat do regist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&lt;BUTTON class="Button" DialogID="</a:t>
            </a: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DiagInputs0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class="ValueMedium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NCType="AsyncIndicatorPainter" AIPLibrary="StdPlugins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ourier New"/>
              </a:rPr>
              <a:t>AIPType="InputPort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ourier New"/>
              </a:rPr>
              <a:t>AIPOptions="Channel: 0; Port: 00; ValType: State;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&gt;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&lt;/BUTT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69040" y="3789360"/>
            <a:ext cx="2766960" cy="93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335772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33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623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39337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3933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5661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brazení nového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 do regis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; ********** DiagInputs0 *********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Software\MEFI\WinCNC\Machine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serInterface\Dialogs\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DiagInputs0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Library"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StdPlugins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Type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Htm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"HtmlFile"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"DiagInputs0.htm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73760" y="1628640"/>
            <a:ext cx="3152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měna obrázku podle hodno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příkladu je zobrazování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 0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Port"&gt;0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Desc"&gt;Ref. spínač osy 9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State" CNCType="AsyncIndicatorPainter" AIPLibrary="StdPlugins" AIPType="PlcVar" AIPOptions="Channel: 0; Variable: inRef9; NumberPrecision: 0; GraphType: Image; DataType: UDWor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GraphType: Imag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Img0: Log0.png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Img1: Log1.png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&gt;0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59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3640" y="256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256536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 výstupů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brazuje aktuální stav výstup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ovlivnit výst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2970360"/>
            <a:ext cx="4299120" cy="375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4149720"/>
            <a:ext cx="7421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BUTTON class="Butto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cCommand="CMD_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In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/BUTT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9549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ková diagnostika vstupů a výstup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9800" y="1700280"/>
            <a:ext cx="64072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Lukáš</cp:lastModifiedBy>
  <dcterms:modified xsi:type="dcterms:W3CDTF">2009-12-06T21:05:02Z</dcterms:modified>
  <cp:revision>76</cp:revision>
  <dc:subject/>
  <dc:title>Snímek 1</dc:title>
</cp:coreProperties>
</file>