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1452-E361-497B-81DB-5EA893DF6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3CB1-87C4-434E-9A8E-B9FA9EE9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237F-D16A-4316-8C47-005A492FE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BC0D-FE70-4774-BF20-88197CFD8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64F4-BF81-4FDF-AB19-43143144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7F7A-94B7-4042-BF02-5B2420C2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C1DF-872F-4533-93BE-97AF8F6F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3108-76AB-4EEE-9788-65862357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B8E8-03A9-46F8-9C61-3D6C855A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B559-6D83-4FAC-95F6-8755472B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E7E2-5FE7-4A72-BF90-3CB97330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A80C-280A-4049-A226-39AF4DFF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4A19-0062-462B-8536-B423B61E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8BE0-64BE-41D9-8D83-41A1D014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5767-5B4B-40FC-A5E3-7B15F155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0302-C25F-4CE3-866D-7C8A9340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1D0A-CD9D-477E-9AAD-E9A5DE063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42B3-E475-43FF-A52F-1BB1C0FC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EAC6-8159-4686-8D93-D0CB6A22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643F-5D73-4CF9-AD41-D7B23ADF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F38B-6675-4B81-A86A-BC272640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052C-5E94-4A62-A8A1-B8553F62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2174-7038-4773-B266-30835ADB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3CD7-4AA0-4EED-B23A-785037B7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8221-DFCB-4CCD-B93E-EA191D5A562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9BCF-F331-4187-A109-F4A3222D067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2920" y="692280"/>
            <a:ext cx="72392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6666"/>
                </a:solidFill>
                <a:latin typeface="Arial"/>
              </a:rPr>
              <a:t>Instalace WinCNC - BIO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9080" y="2755800"/>
            <a:ext cx="7559640" cy="35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Aby systém, resp. počítač nabootoval z USB flash disku, musí se v BIOSu nastavit priorita bootování z hard disk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Advanced BIOS Featu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Hard Disk Boot Prior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USB-HDD0:USB FLASH DRIVE P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t.j. jako první nastavit USB flash di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First Boot Device: Hard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Setup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4292640"/>
            <a:ext cx="839232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ředinstalační prostředí Windows PE je nové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o instalaci, diagnostiku, řešení problém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zálohování. Zjednodušený Operační Systé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Windows PE nahrazuje bývalou systémovou diske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ení to plnohodnotná náhrada operačního systém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4991400" cy="45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1239840" y="1700280"/>
            <a:ext cx="28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pustit intalaca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651640" y="2565360"/>
            <a:ext cx="3024000" cy="141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900000" y="3357720"/>
            <a:ext cx="23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NDOWS 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3716280"/>
            <a:ext cx="32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reinstallation Environment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ardwarové prostřed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36720" y="184464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obrazí se se seznam hardwarových  konfigurací (typy používaných základních desek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58920" y="2924280"/>
            <a:ext cx="3529080" cy="236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4798800" y="2997360"/>
            <a:ext cx="428832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Zde popisovaná instalace je p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Základní desku COMMELL LS5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otvrdíme O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robíhá instalace WINDOWS X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Embedded a dalších kompon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růběh instalace  trvá několik min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a monitoruje se na obrazov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06000" y="5460840"/>
            <a:ext cx="527112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Úspěšná instalace – zobrazí s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***** Setup / Full recovery finished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otvrdíme 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start nebo rovnou obnov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16000" y="1773360"/>
            <a:ext cx="693252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Hlavní nabídka Wizar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yjmeme USB Flash disk (při obnově z USB disku 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Restart systém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bnova systém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4653000"/>
            <a:ext cx="835344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i plnohodnotné instalaci po restartu stiskem tlačítka DEL je třeba dostat se do BIOSU a upravit pořadí bootován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o restartu automaticky proběhnou potřebné  instalace zařízení, driverů, sítě atd., což trvá několik  minut a poté se systém automaticky restartuj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3573360"/>
            <a:ext cx="822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kud máme uživatelskou (případně tovární) zálohu – není třeba pokračovat v instalaci restartem, ale v menu se zvolí rovnou obnova – po ukončení obnovy je systém připraven k činnosti 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51280" y="2492280"/>
            <a:ext cx="3240000" cy="28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851280" y="2924280"/>
            <a:ext cx="3240000" cy="28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Konec instala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8487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38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vní „ruční“ zásah je třeba, když se objeví ok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elect Netware Log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9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879480" y="4308480"/>
            <a:ext cx="261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2089080" cy="188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3276720" y="2565360"/>
            <a:ext cx="270504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ic se nenastavuje 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uze potvrdit 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00720" y="3429000"/>
            <a:ext cx="4248000" cy="31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743040" y="5243400"/>
            <a:ext cx="288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končení insta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805360"/>
            <a:ext cx="42116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Poznámka k motherboardu Commell LS57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Po naběhnutí úvodní obrazovky je potřeba před dalším nastavením znovu restartovat  počíta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ávěrečná nastaven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8560" y="1827000"/>
            <a:ext cx="77058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o restartu nastavit monitor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ravé tlačítko myši na ploše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&gt;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Graphics Options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&gt;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Output To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&gt;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Monito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ravé tlačítko myši na ploše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&gt;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Properties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&gt; Záložka Settings-&gt; Nastavit rozlišení 1024x76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vést kalibraci monitor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okalizace a regionální nastavení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(Česky, Anglicky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stvit WinCNC jako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ktivovat Enhanced Write Filter : ewfmgr c:  -enabl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ainstalovat systém – buď setupem nebo ze zálohy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06:49Z</dcterms:created>
  <dc:creator>Jiří Hoffmann</dc:creator>
  <dc:description/>
  <dc:language>en-US</dc:language>
  <cp:lastModifiedBy>Jiří Ekrt</cp:lastModifiedBy>
  <dcterms:modified xsi:type="dcterms:W3CDTF">2009-12-10T11:33:41Z</dcterms:modified>
  <cp:revision>43</cp:revision>
  <dc:subject/>
  <dc:title>Snímek 1</dc:title>
</cp:coreProperties>
</file>