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F1E-D038-408B-B8A5-BE26B0C3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D8B-DFC9-4892-B693-202CA1A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679-E6B9-46BC-84D6-F0F84A44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A1B-8CDF-45AF-9D3F-6D8438B7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6A44-8F3F-46CD-871C-8C8EAE70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8FE8-454C-40F4-B0BA-D5D8F61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EC4-362C-4FEB-9F0D-7AA4168F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8E92-53C0-47F7-9C07-30528EC6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0502-1B26-407B-AC59-4D533C6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6C13-EB57-42E6-BB17-E454C74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200-475C-4684-BDFB-77771380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AC3-F4D4-4DB5-92B3-E3132494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843-9E3F-4D8D-A28B-87967F4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17BC-17F3-4AE2-9F2E-43EAF78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37C-DD54-45DE-BAF4-8484B64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21C8-DF0A-4473-BAE5-7A985581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9B7A-0580-45EC-A46B-82C22C82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570-CCA1-437B-9DE6-127EFEE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26D-53CA-4EC7-BD7D-6585433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4A6-81CB-47D7-9042-B38FCF7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696-03E2-4CCE-B595-D3E7AED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865-2E81-4263-8AA1-C90CDBF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36C-3CB5-4BC2-99D3-8C4EB20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6C6-754E-46FB-B7FF-F1D92B2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9D2-2426-4170-99FD-E160CB4C5D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7B6-F477-4C34-B12D-3F9191E6F6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vorba pevných tvarů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aní nového tvaru a úprav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áce se záložkami, tlačítky, obrázk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zá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styl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#Tab0, #Tab1,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#Tab2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position: absolute;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#Tab2Top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position: absolute; top: 50;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left: 230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width: 10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eight: 28; background-color: #CAD4E0; border: gray soli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border-bottom-width: 0px; border-left-width: 2px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border-right-width: 2px; border-top-width: 2px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text-align: center; cursor: defaul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2498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zá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JavaScrip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unction ViewTab(strTab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ar oTab2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document.getElementById("Tab2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ar oTab2Top  = document.getElementById("Tab2Top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if (strTabID != "Tab2")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.style.zIndex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0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.style.visibility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hidden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Top.style.zIndex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0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DIV id="Tab2Top" class="LabelMedium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LocStrID="</a:t>
            </a:r>
            <a:r>
              <a:rPr b="1" lang="cs-CZ" sz="1400" spc="-1" strike="noStrike">
                <a:solidFill>
                  <a:srgbClr val="0000ff"/>
                </a:solidFill>
                <a:latin typeface="Courier New"/>
              </a:rPr>
              <a:t>IDS_SelTab2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 onclick="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iewTab('Tab2')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id="Tab2"&gt;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parametru a obráz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ložit obráze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!-- Obrázek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PictureAreaSample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IMG id="Picture_Shape2" src="Sample1.png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1574640"/>
            <a:ext cx="4824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paramet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44640"/>
            <a:ext cx="7313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ložit do HTML stránky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Tab2"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!-- Parametry tvaru --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sAreaSample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_Lbl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  class="LabelMedium"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gt;L1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INPUT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_Val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class="EditMedium"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ype="text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urier New"/>
              </a:rPr>
              <a:t>StorageName="MAC_ROUGH_SAMPLE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urier New"/>
              </a:rPr>
              <a:t>NumberCheck="NumberType: Real;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AME="Param_R00_Val" value="1000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edání parametru z HTML do NC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torageNam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dává název proměnné v NCP programu, jejíž hodnota je naplněna z HTML dialog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Name="MAC_ROUGH_SAMP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umberChec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zkontrolovat typ zadaného čísla (Real, Integer,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Check="NumberType: Real;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ředat hodnotu do NCP program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 hlavičkového souboru X.NCH stačí nadefinovat stejnojmennou proměnno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$MAC_ROUGH_SAMPLE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RPA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šíření dialogu o množstv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3822840"/>
            <a:ext cx="3888000" cy="2919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5761080" cy="406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78520" y="382284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37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8097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unction DrillSelect(iSelectID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witch(iSelectID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ase 10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SAMPLE1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,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SAMPLE2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,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ycleName =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ocument.getElementById(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'MAC_SELECT_SAMPLE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options[docum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getElementById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MAC_SELECT_SAMPLE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selectedIndex].valu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CycleName,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Picture_Shape2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.src= CycleName + '.png';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break;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}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Úprava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kaliz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tringTableCSY" class="StringTabl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SPAN id="IDS_Sample1"&gt;Příklad 1&lt;/SPA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SPAN id="IDS_Sample2"&gt;Příklad 2&lt;/SPA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sah jednotlivých nabíde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AMPLE1_HIDDEN" style="visibility=hidden;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obsah stránky při zvolené volbě 1 pomocí rolovací nabíd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AMPLE2_HIDDEN" style="visibility=hidden;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obsah stránky při zvolené volbě 2 pomocí rolovací nabíd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ýsledná podoba stránk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ah celé záložky se mění při volbě z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t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3586320"/>
            <a:ext cx="4105440" cy="308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3587760"/>
            <a:ext cx="4103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natáčení, kopírování, zrcadelní,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2917800"/>
            <a:ext cx="5184720" cy="389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5640" y="3213000"/>
            <a:ext cx="1152360" cy="316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vné tv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nadnění prá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duché zadáván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adné přizpůsobení aktuálním potřebá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ložení menu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evé menu (MenuCopy.htm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!-- Společné prvky (zrcadlení, natočení, měřítko, množení, ... )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CommonArea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IFRAME src="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enuCopy.htm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rameborder="0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yle="POSITION:absolute; WIDTH:100%;HEIGHT:100%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IFRA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ání dalšího prv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 – množení bloků v ose 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3586320"/>
            <a:ext cx="4105440" cy="3084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59280" y="3587760"/>
            <a:ext cx="4103640" cy="3083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84720" y="537372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365720"/>
            <a:ext cx="93672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prvku do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8097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 MenuCopy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FORM id="MAC_COPY_Z_MENU_MAIN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INPUT class="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heckBox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torageName="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C_COPY_Z_MENU_COUNT_VI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nClick="MenuCopyVisibility(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1" lang="cs-CZ" sz="1400" spc="-1" strike="noStrike">
                <a:solidFill>
                  <a:srgbClr val="0000ff"/>
                </a:solidFill>
                <a:latin typeface="Verdana"/>
              </a:rPr>
              <a:t>MAC_COPY_Z_MENU_MAI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')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FORM id="</a:t>
            </a:r>
            <a:r>
              <a:rPr b="1" lang="cs-CZ" sz="1400" spc="-1" strike="noStrike">
                <a:solidFill>
                  <a:srgbClr val="0000ff"/>
                </a:solidFill>
                <a:latin typeface="Verdana"/>
              </a:rPr>
              <a:t>MAC_COPY_Z_MENU_MAIN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1" lang="cs-CZ" sz="1400" spc="-1" strike="noStrike">
                <a:solidFill>
                  <a:srgbClr val="ff0000"/>
                </a:solidFill>
                <a:latin typeface="Verdana"/>
              </a:rPr>
              <a:t>HIDDEN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" style="display=non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ABLE style="width=100%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R&gt;&lt;TD LocStrID="IDS_COUNTZ"&gt;Count in Z&lt;/T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D&gt;&lt;INPUT class="EditMedium"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"MAC_COPY_COUNTZ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umberCheck="NumberType: Integer;" type="text"&gt;&lt;/TD&gt;&lt;/T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R&gt;&lt;TD LocStrID="IDS_DIFERENCEZ"&gt;Offset Z&lt;/T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D&gt;&lt;INPUT class="EditMedium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"MAC_COPY_DIFERENCEZ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ype="text" value="130" style="WIDTH:40px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umberCheck="NumberType: Real;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menu do NCP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954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ožit do NCP kopírování v ose 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BEGIN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C_COP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OPT(SUBOPT_RESTOREPTRANSFORM,1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 (EQ(MAC_COPY_Z_MENU_COUNT_VIS,1)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 Pokud je v menu zvoleno Množení bloků v ose 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LLMACRO(MAC_COPY_Z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EQ(MAC_COPY_MENU_SCALE_VIS,1)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 Pokud je v menu zvoleno Měřítk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_COPY_SCALE = MAC_COPY_SCALE/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CALE(MAC_COPY_SC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írování v ose 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obrazení výsledného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BODY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onLoad="ViewTab('Tab0'); DrillSelect(); ChangePicture();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GCOLOR="lightgrey" PutHtmlFile="TRUE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CPFile="Macro\RoughVertical1.ncp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NCDirectory="DIR_USER SUBDIR_NCP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lockText=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AC_COPY_PART = MAC_ROUGH_VERTICAL1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CALLMACRO(MAC_COPY)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51280" y="4962600"/>
            <a:ext cx="51116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edvol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ložit do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&lt;DIV id="PreselectionsArea" innerHTMLFile="Preselections.html"&gt;&lt;/DIV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635280" y="2690640"/>
            <a:ext cx="5351400" cy="402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56360" y="2924280"/>
            <a:ext cx="2808360" cy="30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384720" cy="35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16360" y="3500280"/>
            <a:ext cx="64764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3384720" cy="370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8000" y="407664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stup ze systé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kladní výběr pro konkrétní typ stroje (řezací stroj, fréza, soustru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ze základní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1257480" cy="82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94160" y="3429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76720" y="378936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truktura souboru 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827360"/>
            <a:ext cx="77407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lavič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ddefinování vzhledu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avascript ovládání různých interaktivních prvk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okalizace textů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zadí a nadpis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ata, tabul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olečné prvky (zrcadlení, natočení, množení, ..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ky specifické danému tvaru (záložky, obrázky, ..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dvol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kalizace textů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slušný jazyk rozlišuje hodnota identifikát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š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CSY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lš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PLK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nglič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ENU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!-- String tables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IV id="StringTable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S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class="StringTabl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PAN id="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enu - Tvar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id="StringTable</a:t>
            </a:r>
            <a:r>
              <a:rPr b="1" lang="cs-CZ" sz="1400" spc="-1" strike="noStrike">
                <a:solidFill>
                  <a:srgbClr val="ff0000"/>
                </a:solidFill>
                <a:latin typeface="Courier New"/>
              </a:rPr>
              <a:t>ENU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" class="StringTabl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PAN id="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enu - Shap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ourier New"/>
              </a:rPr>
              <a:t>&lt;!-- Titulek dialogu --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class="WindowTitle" LocStrID="</a:t>
            </a:r>
            <a:r>
              <a:rPr b="1" lang="cs-CZ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ff0000"/>
                </a:solidFill>
                <a:latin typeface="Courier New"/>
              </a:rPr>
              <a:t>Menu - Sha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esta k souboru Menu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Soustru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\Html\Macro\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ath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\Menu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6720" y="2997360"/>
            <a:ext cx="5688000" cy="2844720"/>
            <a:chOff x="1836720" y="2997360"/>
            <a:chExt cx="5688000" cy="28447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836720" y="2997360"/>
              <a:ext cx="568800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3800" y="3610080"/>
              <a:ext cx="237636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TABLE width="100%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TD align="center" style="width: 25%;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oughVertical1.html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Odkaz na HTML stránku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IMG src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Thumb RoughVertical1.gif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Miniatur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SPAN LocStrID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IDS_RoughVertical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Lokalizovan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Příčné hrubování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náze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03800" y="4389480"/>
            <a:ext cx="4589280" cy="2279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4797360"/>
            <a:ext cx="1800000" cy="1584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3357720"/>
            <a:ext cx="453708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2781360"/>
            <a:ext cx="3673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068640"/>
            <a:ext cx="453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Úprava HTML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příkladu vycházíme z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ughHorizont1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odélné hrubová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ovou stránku pojmenujeme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ughVertical1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íčné hrubová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8000" y="3500280"/>
            <a:ext cx="4176720" cy="313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417672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Úprava HTML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dpis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 Titulek dialogu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V class="WindowTitle" LocStrID="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gh Vertical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rázek v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 Obrázek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V id="PictureArea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MG id="Picture_Shape0" src=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ghVertical1.p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Lukáš</cp:lastModifiedBy>
  <dcterms:modified xsi:type="dcterms:W3CDTF">2009-12-08T06:21:48Z</dcterms:modified>
  <cp:revision>69</cp:revision>
  <dc:subject/>
  <dc:title>Snímek 1</dc:title>
</cp:coreProperties>
</file>