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F68-81DD-4735-8A2A-CD9A2BFD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1BD-BB86-48F4-8A30-A484C253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0B8-D849-49D2-BA45-6AD05646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08A-6061-4356-9ED9-370D8BD7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A8E-753C-43BF-AF7F-4D5F6190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4F1-6BC3-4365-B54E-E0FAE05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8D90-9CC0-4562-B6E7-12893FA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1F0-38B3-4DE7-9860-66AE2FD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A89-90DE-41FC-AB4E-B25E50C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A6B7-E8D6-415C-A9F2-9D73391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2254-0BE1-418B-92F6-D9798D3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38-F91F-4E85-9AFC-BD3167C8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FEF-5564-437A-80A7-E4033B8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2BB-E5D9-4F86-94C7-7BB59C9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00A-FEAB-4D43-A738-ADACBF9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2AF-7D84-4545-B9EE-28B4DD1E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B970-4D11-48DD-BEFC-8E706744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4F8-2734-471B-9B74-E96613A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C4D-C975-452A-B3E2-35F96701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CFE-C6AD-4E2B-B3B3-3F0C941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C17-2628-43E2-8B89-A1367D7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C3B-8D75-4ACA-BA8C-FF6F0A83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53B-1E6D-4270-9E4B-6149E6C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15F-C114-4E95-93F8-AF19BE4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D2CA-9869-4233-9906-C60A465F1A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134-1C3F-490D-9DF8-BD9CCDD937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Zálohování systému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konstrukce disk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880" y="3427200"/>
            <a:ext cx="73058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Uživatelská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záloha, zajistí snadný a rychlý návrat do stavu před havárií disku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vární záloha – pojistka pokud není uživatelská záloha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nstalace nového disku -  krajní příp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živatelská záloha – tlač. Back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taz jakou část zálohovat ?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1680" y="2682720"/>
            <a:ext cx="3209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om Systém (C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om Data (D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ojí  - (nejčastěji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vrdím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ůzkumník úložiště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53625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343480" cy="3876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05000" y="2003400"/>
            <a:ext cx="261936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kno se obje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2x, pokud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škrtli zálo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ystém i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ždy potvrdí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lač. „Op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padně změ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lož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itorování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545080" cy="41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621080" y="6021360"/>
            <a:ext cx="52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vrzení vytvoření zálohy tlačítkem O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ie na externí med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ukončení zálohy - před restartem je možné si  z příkazové řádky zálohy zkopírovat  na externí médiu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5015160" cy="50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971640" y="4221000"/>
            <a:ext cx="756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kopírujeme např. všechny wim soubory na US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 příkaz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opy *.wim 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em si zkontrolujeme, zda skutečně  kopírujeme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ný disk, pokud máme připojeno více USB dis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ie na externí med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36264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059480" y="5229360"/>
            <a:ext cx="672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áloha je hotová – restartujeme systé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 (uživatelská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51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noví systémový a/nebo datový oddíl do stavu v okamžiku vytváření zálo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uje na diskové úrovni =&gt; přepíše celý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matovat na změny v datové části od doby vytvoření zálohy – budou rovněž přepsá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 (uživatelská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nova se spustí tlačítkem „Restore from Backup“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4365720"/>
            <a:ext cx="396072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5084640"/>
            <a:ext cx="3965400" cy="13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terou část obnovit a odk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592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284720" y="1700280"/>
            <a:ext cx="4173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volíme obnovu jen systé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datové části nebo ob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5343480" cy="38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5520" y="4005360"/>
            <a:ext cx="321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olíme, odk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 obnova prov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mplicitně se nabí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ecover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ůžeme z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na USB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ec obnov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313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bor potvrdíme (tlačítko „Open“), začne proces obnovy části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 dokončení, v případě, že jsem zaškrtli i políčko „Data“, potvrdíme nabídnutý soubor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ackupData.wi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čne proces obnovy části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nova je monitorována - poslední výp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***** Restore from Backup finished 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ončení zálohy potvrdíme tlačítkem 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dis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0160" y="1995480"/>
          <a:ext cx="7313400" cy="37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995480"/>
                    <a:ext cx="731340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je tovární a uživatelská záloha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 hlediska vytváření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„Tovární“ a „Uživatelské“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zálohy mezi nimi není rozdíl. Obě obsahují systémovou a datovou část – obrazy disků (proto přípona wim, windows image) 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Systémová čás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zálohy -  image disku C uložený do souboru (chráně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Datová část záloh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image disku D uložený do souboru (nechráněný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dy se vytváří zálohy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zdíl je pouze v 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obě tvorb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dyž výrobce vytváří „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vární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 zálohu, nemá obvykle k dispozici PLC, nezná nastavení konfigurace pro konkrétní stroj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vykle pouze instaluje typ stroje (Frézka, soustruh, řezací stroje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álohuje stav v konečné fázi výroby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dy se vytváří zálohy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16280"/>
            <a:ext cx="69325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živatelská záloha by se měla provést při  před předáním stroje zákazník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vylučuje se udělat zálohu kdykoli později, např. při opravě PLC nebo konfigurace – vždy ale setupem P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loha není náhrada za správný projekt PLC – vždy musíme být schopni přeložit a nainstalovat aktuální stav PLC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am se zálohy ukládají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mplicitně do kořenového adresáře chráněného disku „X“, volitelně ale můžeme uložit kamkol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poručuje se uložit zálohu do „recovery“ a poté si ji zkopírovat na externí mediu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ázvy souborů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actoryDefaultsSystem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actoryDefaultsData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BackupData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BackupSystem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ytvoření uživatelské zálohy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6121440" cy="20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mínkou je připojení PC klávesnice a případně myši k systému. Po zapnutí  systému se po dobu několika sekund objeví startovací nabídk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87280" y="5516640"/>
          <a:ext cx="6481800" cy="8283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 and Recover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58920" y="4149720"/>
            <a:ext cx="5951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hose an operating system to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 the arrow keys  to highlight your cho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hen press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 and Recovery Wi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80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volené a zakázané po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volené položky jsou zvýrazněné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 výroby MEFI je distribuován systém, který má udělanou „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ovární zálohu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“, t.j. položka „Factory backup“ není povolena – protože je již proved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ní důvod provádět novou tovární zálohu (museli bychom smazat soubory FactoryDefaultsSystem.wim a  FactoryDefaultsData.wi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živatelská záloha je povolená vž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09T07:39:00Z</dcterms:modified>
  <cp:revision>29</cp:revision>
  <dc:subject/>
  <dc:title>Snímek 1</dc:title>
</cp:coreProperties>
</file>