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1F70-E3D0-4AEA-A2D1-6FCBA328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DF83-F0A9-49E7-88C1-6B1E648D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766E-412C-4DC6-904A-C4FD5315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E4FD-7042-416B-91BF-CB931D21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239E-C360-4480-89B1-860243EE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02BC-53CC-47B6-B313-C8706406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E8B0-B9D3-478A-AA84-9956E5AD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82B8-C3E1-4F57-ADF9-D27B9CD3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F0EC-48BE-44C7-B9C1-F63444FA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87A6-7671-4D91-9212-2015E663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F7F8-54A4-4616-A9DC-646ACCC6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D568-0864-45D5-BE60-046130FD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BF44-143C-4325-AE4C-085FFB7B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B85C-D12D-400F-B9AB-7BA581BA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9C48-DF8B-4A6F-B3B1-FEBAE753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D174-1306-4AE1-9A21-A08D80EE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7985-DF1D-4862-A7EE-28E4B7CF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755-08A9-4A0E-8D26-A74D7B93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BEF9-1787-41D2-B2C5-D3606560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349-BB7D-436D-B47A-4BAB043C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C87E-5449-4886-AABA-2070D6BD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8818-91C1-41D0-BA5A-1298506F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F15-FE1B-4968-BFA5-D4BF2E49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9C2B-A23A-40F5-AD16-26CDC7A8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6BBC-1802-4B2B-AB70-2A043720B4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C502-9856-4788-8C5E-42F2A61307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izpůsobení řídících systémů řady CNC872 konkrétní aplikac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jekt, instalace, PLC, přizpůsobení uživatelského rozhra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kn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Nakonfigurovaná okna lze použít v rámci rozvrže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onfigurace v registru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…\UserInterface\Windows\I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ID – identifikátor, pomocí tohoto ID se na dialog odkazuje (zejména při konfiguraci rozvržení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kn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polečné prvky konfigurac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Library: knihovna implementující požadované ok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Type: typ okna, viz výčet typů implementovaných v dané knihovn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Name: jméno okna, pomocí něj lze vyhledat při volbě indikace (lze lokalizovat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Category: kategorie oken, kam se má zařadit (pro volbu indikace, lze lokalizovat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ozvrže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onfigurace v registru: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…\UserInterface\Layouts\I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ID – identifikátor, pomocí tohoto ID se na rozvržení odkazu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vky konfigurac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Name: jméno rozvržení, pomocí něj lze vyhledat při volbě indikace (lze lokalizovat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Category: kategorie, kam se má zařadit (pro volbu indikace, lze lokalizovat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WindowsCount: počet o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ozvrže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onfigurace okna rozvržení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 podklíči WindowN, kde N je index okna (0 až WindowsCount – 1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efaultWindow: ID okna, které se defaultně použije na daném místě rozvržení, lze změnit volbou indika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Left, Right, Top, Bottom: umístění okna v rámci obdélníku rozvržení, zadává se v 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okna“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WinCNC používá celou řadu oken, jejichž vzhled je řízen pomocí HTML, všechna mají společný základ =&gt; část možností je společná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o potřeby WinCNC je HTML doplněno o další atribu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WinCNC do takových oken umí vkládat prvky, které jsou asynchronně („rychle“) překreslovány: tzv. „Async Indicator Painter“, „AIP“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okna“ – společné prv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tylopis“ dle konfigurace (použití konfigurovatelného souboru s kaskádovými styly)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&lt;LINK ID="SkinStyleSheet" rel="stylesheet" type="text/css" href="DefaultSkin.css"&gt;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oubor, na který odkazuje href, je za běhu změněn podle konfigurac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okna“ – společné prv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Určení velikosti dialogu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&lt;DIV id="DialogBackground"&gt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Libovolný element s ID DialogBackgroun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Musí být v elementu BOD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šechny viditelné elementy musí být v tomto element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okna“ – společné prv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lačítk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aždý typ okna připouští určitou sadu tlačítek (element BUTTON, popř. DIV), která používá, musí mít zadán požadovaný id (dle okn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aždé tlačítko můž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Zadat příkaz pro WinCNC, PLC, RT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Zobrazit dialo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Změnit rozvržen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okna“ – společné prv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lačítk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olba rozvržení – ID rozvržení se uvede do atributu LayoutI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obrazení dialogu – ID dialogu se uvede do atributu DialogI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říkazy – atributy CncCommand, PlcCommand a RtmComman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okna“ – společné prv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Lokalizace: tabulka řetězců</a:t>
            </a:r>
            <a:br>
              <a:rPr sz="25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DIV id="StringTableCSY" class="StringTable"&gt;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SPAN id="IDS_WindowTitle"&gt;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Parametry řezání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/SPAN&gt;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SPAN id="IDS_CuttingAreaTitle"&gt;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Řezá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/SPAN&g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Tabulka musí být pro každý jazy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kud se nenalezne tabulka pro aktuální jazyk, ponechají se původní řetěz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izpůsobení aplikac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řizpůsobení řídícího systému konkrétní aplikaci neznamená pouze tvorbu PLC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e potřeba řešit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L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Uživatelské rozhran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Konfigurac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Technologi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Tvorba pevných cyklů a makrocyklů, dialogy pro jejich použit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okna“ – společné prv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okalizace: použití řetězce z tabulky</a:t>
            </a:r>
            <a:br>
              <a:rPr sz="29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IV LocStrID="IDS_WindowTitle"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utting paramet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Identifikátor řetězce (podle tabulky) musí být uvedena v atributu LocStrI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okna“ – společné prv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Indikační prvky vkládané do HT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Async Indicator Painter (AIP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Řešeno pomocí pluginů =&gt; s využitím známeho rozhraní lze naprogramovat libovolný způsob zobrazová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užití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Číselné zobrazení hodno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Grafické zobrazení hodno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Indikační „LED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okna“ – společné prv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ložení AI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AIP se vkládá přes HTML el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adání pomocí dodatečných atributů:</a:t>
            </a:r>
            <a:br>
              <a:rPr sz="25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&lt;DIV CNCType="AsyncIndicatorPainter„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  AIPLibrary="StdPlugins„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  AIPType="Axis„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  AIPOptions="Channel:0; Axis:0;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     ValType:Pos0; NumberPrecision:3; "&gt;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 123.12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okna“ – společné prv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imple event generator“ – umožňuje volání skriptu z HTML stránk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Vložení pomocí HTML element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Zadání pomocí dodatečných atributů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Courier New"/>
              </a:rPr>
              <a:t>&lt;OBJECT VIEWASTEXT style="visibility:hidden;" CNCType="SimpleEventGenerator" SEGLibrary="StdPlugins" SEGType="PlcVarWatcher" SEGOptions="Variable: CurOp;"   SEGFunction="OnCurOpChanged"&gt;&lt;/OBJECT&g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okna“ – společné prv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imple event generator“ – skript</a:t>
            </a:r>
            <a:br>
              <a:rPr sz="29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SCRIPT&gt;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function OnCurOpChanged(EventVal, EventOp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// EventVal - nová hodnota proměnn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// EventOp  - zde nevyužito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okna“ – společné prv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imple event generator“ – typ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lcSAWatcher – hlídání hodnoty ve sdílené pamě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lcVarWatcher – hlídání hodnoty přímo sdílené proměnné definované v PL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RtmVarWatcher – hlídání hodnoty přímo sdílené proměnné definované v modulu reálného času (RTM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ialogové zadání programu – „Tvary“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ytváření NC programu na základě parametrů zadaných uživatelem do dialog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bsah vygenerovaného programu je dán HTML souborem a parametry zadanými uživatele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Umožňuje obrábění vybraných programu bez ručního NC programová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kno typu „MacroDialog“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alogové zadání progra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Generuje NC program ve tvaru:</a:t>
            </a:r>
            <a:br>
              <a:rPr sz="2900"/>
            </a:br>
            <a:r>
              <a:rPr b="0" i="1" lang="cs-CZ" sz="2900" spc="-1" strike="noStrike">
                <a:solidFill>
                  <a:srgbClr val="000000"/>
                </a:solidFill>
                <a:latin typeface="Courier New"/>
              </a:rPr>
              <a:t>InitText</a:t>
            </a:r>
            <a:br>
              <a:rPr sz="2900"/>
            </a:br>
            <a:r>
              <a:rPr b="1" lang="cs-CZ" sz="29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Courier New"/>
              </a:rPr>
              <a:t>Param1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i="1" lang="cs-CZ" sz="2900" spc="-1" strike="noStrike">
                <a:solidFill>
                  <a:srgbClr val="000000"/>
                </a:solidFill>
                <a:latin typeface="Courier New"/>
              </a:rPr>
              <a:t>Hodnota1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Courier New"/>
              </a:rPr>
              <a:t>Param2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i="1" lang="cs-CZ" sz="2900" spc="-1" strike="noStrike">
                <a:solidFill>
                  <a:srgbClr val="000000"/>
                </a:solidFill>
                <a:latin typeface="Courier New"/>
              </a:rPr>
              <a:t>Hodnota2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Courier New"/>
              </a:rPr>
              <a:t>BlockText</a:t>
            </a:r>
            <a:br>
              <a:rPr sz="2900"/>
            </a:br>
            <a:r>
              <a:rPr b="0" i="1" lang="cs-CZ" sz="2900" spc="-1" strike="noStrike">
                <a:solidFill>
                  <a:srgbClr val="000000"/>
                </a:solidFill>
                <a:latin typeface="Courier New"/>
              </a:rPr>
              <a:t>FinalText</a:t>
            </a:r>
            <a:br>
              <a:rPr sz="2900"/>
            </a:br>
            <a:r>
              <a:rPr b="1" lang="cs-CZ" sz="2900" spc="-1" strike="noStrike">
                <a:solidFill>
                  <a:srgbClr val="000000"/>
                </a:solidFill>
                <a:latin typeface="Courier New"/>
              </a:rPr>
              <a:t>N ENDPROGRAM</a:t>
            </a:r>
            <a:br>
              <a:rPr sz="2900"/>
            </a:br>
            <a:r>
              <a:rPr b="0" i="1" lang="cs-CZ" sz="2900" spc="-1" strike="noStrike">
                <a:solidFill>
                  <a:srgbClr val="000000"/>
                </a:solidFill>
                <a:latin typeface="Courier New"/>
              </a:rPr>
              <a:t>FileEndTex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alogové zadání progra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Co obsahuje řídící HTML soubor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Element BODY může obsahovat další atributy, jejichž text se přímo vloží do generovaného NC programu: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InitText, BlockText, FinalText, FileEndTex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alogové zadání progra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Co obsahuje řídící HTML soubor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Elementy INPUT s atributem StorageNa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torageName – jméno parametr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alue – hodnota, která se zapíše do parametru (mění uživate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InitialValue – výchozí hodnota, přepisuje minule zadano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DDXOptions – volby pro převod čísel (MinVal, MaxVal, NumberPrecision, …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jek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ákladem pro přizpůsobení je projekt WinTechnol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bsahuje vše, co je potřeba přidat ke standardní instalaci WinCN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ýsledkem překladu projektu je instalátor, který automatizuje proces instalace a upgrad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Instalace a odinstal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ýsledkem překladu projektu je instalátor, který automatizuje proces instalace a upgrad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 vytváření instalátoru se používá „Nullsoft Scriptable Install Systém“ (NSI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olně ke stažení na adrese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http://nsis.sourceforge.n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stal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opíruje na řídící systém všechny potřebné soub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ytváří konfiguraci v registr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ůže na řídící systém kopírovat výchozí verze některých uživatelských souborů (kopírují se pouze v případě, že na systému ještě neexistují – případný upgrade je tudíž neovlivní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Odinstal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Musí odstranit všechny soubory z CNC Machine Fi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Musí odstranit konfiguraci z registru (nemusí řešit projekt WinTechnolu – automaticky se maže celý klíč ...Machin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Instalace a odinstalace pomocí NSI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Co je třeba uděl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 projektu WinTechnolu přidat klíčová slova (karta Make.knf):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Setup = NSIS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athNSIS = C:\Progra~1\NSIS\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 projektu přidat soubor PLC.nsi, který obsahuje předpis pro tu část instalace a odinstalace, která je závislá na projekt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Instalaca a odinstalace pomocí NSI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LC.nsi musí obsahovat funkc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InstallPlcFiles – kopírování souborů projektu na řídící systé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un.InstallPlcFiles – odebrání souborů při odinstalac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InstallPlcConfig – vytvoření konfigurace v registru Windo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Un. InstallPlcConfig – odstranění konfigurace z registru Windows (může být prázdné, pokud se konfigurace zapisuje pouze do klíče HKLM\SOFTWARE\MEFI\WinCNC\Machin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oftware pro správu verz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jednodušuje proces archivace zdrojových kódů projekt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Umožňuje snadné dohledání stavu softwru k určitému dat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Umožňuje spolupráci více osob na jednom projekt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oftware pro správu verz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MEFI používá software založený na projektu „Subversion“ („SVN“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abízí dostatečnou funkcionalitu a spolehlivo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Možnost volby z několika nadstaveb (uživatelských rozhraní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poručujeme „TortoiseSVN“ (volně ke stažení z http://tortoisesvn.tigris.org/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V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vá data si ukládá do databáze (Repository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o Repository neukládá celé soubory, ale pouze informace o změná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acuje se soubory – není zde přímá vazba na projek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acovní kopie – sada souborů, se kterými pracuji na svém počítač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V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Repository umístěná lokálně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elze použít pokud má spolupracovat více osob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evyžaduje síťové připoje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ednodušší vytvoření a konfigura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Repository umístěná na server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utné, pokud má na projektu pracovat více osob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yžaduje síťové připoje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TortoiseSV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lient SVN, který se integruje do prostředí Průzkumníka ve Window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Grafické zobrazení stavu verzovaných soubor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Jednotlivé operace se spouští přímo z prostředí průzkumní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č projek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še na jednom místě =&gt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nadné zálohová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možňuje „správu verzí“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utomatizace procesu přizpůsobe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akovatelnost procesu přizpůsobe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možňuje „opravu na dálku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TortoiseSVN – základní oper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Checko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ytvoření pracovní kopi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táhne“ příslušné soubory z Repository pro zadanou (zpravidla poslední) reviz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TortoiseSVN – základní oper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Commi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devzdání změn do Reposito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ejprve lokálně vyhledá provedené změny, které následně přenese do Reposito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ení nutno používat vždy pro všechny verzované soubory najedno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ytvoří novou revizi (i v případě použití pro jediny soubor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TortoiseSVN – základní oper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ískání změn z Repository – aktualizace pracovní kopie podle změn ze zvolené (zpravidla poslední) reviz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achovává mnou provedené změny v pracovní kopi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kud moje pracovní kopie obsahuje změny na stejném místě, jako daná revize, dochází ke konfliktu. Konflikt je třeba řešit „ručně“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TortoiseSVN - použit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Co je třeba uděl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ařídit verzování projekt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 projektu WinTechnolu přidat klíčové slovo (karta Make.knf):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MakeRevInfo = MakeRevInfo.b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 projektu WinTechnolu přidat soubo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MakeRevInfo.bat – vytváří soubory PlcRevInfo.nsh a PlcRevInfo.a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lcRevInfoSrc.nsh, PlcRevInfoSrc.a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oučásti projekt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drojové soubory PL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efinici PLC konstant a PLC chyb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onfiguraci řídícího systém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ioritní blo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Tabulk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evné cykly, makrocykly, 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oubory pro přizpůsobení uživatelského rozhraní (HTML, softwarové menu, …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kript pro vytvoření instalátor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dikáto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44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onfigurace v registru: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…\UserInterface\Indicators\Top\ID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…\UserInterface\Indicators\Left\ID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…\UserInterface\Indicators\Right\ID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…\UserInterface\Indicators\Bottom\I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ID – identifikátor indikátoru, musí být jednoznačný pro danou stran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ako indikátor lze použít jakékoliv „okno“ (plugin typu „Window Wrapper“), obdobně jako v rozvržení či dialog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dikáto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polečné položky konfigurac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Library: knihovna implementující požadovaný indikátor („okno“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Type: typ indikátoru („okna“), viz výčet typů implementovaných v dané knihovně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Left, Right, Top, Bottom: umístění indikátoru v rámci plochy obdélníku vyhrazeného pro indikátory na dané straně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alog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onfigurace v registru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…\UserInterface\Dialogs\I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ID – identifikátor dialogu, pomocí tohoto ID se na dialog odkazu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 dialogu lze použít jakékoliv „okno“ (plugin typu „Window Wrapper“), obdobně jako v rozvržení nebo indikátor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alog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polečné prvky konfigurac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Library: knihovna implementující požadovaný dialog („okno“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Type: typ dialogu („okna“), viz výčet typů implementovaných v dané knihovn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Width, Height: Rozměry dialogu. U oken založených na HTML lze nastavit pomocí HTML souboru. Pokud se nezadá, dialog se roztáhne přes celou plochu rozvržen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DontInherit: ignorovat nastavení z instalační, popř. také strojní sekce konfigura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06:49Z</dcterms:created>
  <dc:creator>Jiří Hoffmann</dc:creator>
  <dc:description/>
  <dc:language>en-US</dc:language>
  <cp:lastModifiedBy>Jiří Hoffmann</cp:lastModifiedBy>
  <dcterms:modified xsi:type="dcterms:W3CDTF">2009-12-08T12:46:56Z</dcterms:modified>
  <cp:revision>44</cp:revision>
  <dc:subject/>
  <dc:title>Snímek 1</dc:title>
</cp:coreProperties>
</file>